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7.wmf" ContentType="image/x-wmf"/>
  <Override PartName="/ppt/media/image8.jpeg" ContentType="image/jpeg"/>
  <Override PartName="/ppt/media/image12.png" ContentType="image/png"/>
  <Override PartName="/ppt/media/image7.png" ContentType="image/png"/>
  <Override PartName="/ppt/media/image1.jpeg" ContentType="image/jpeg"/>
  <Override PartName="/ppt/media/image15.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png" ContentType="image/png"/>
  <Override PartName="/ppt/media/image3.jpeg" ContentType="image/jpeg"/>
  <Override PartName="/ppt/media/image14.png" ContentType="image/png"/>
  <Override PartName="/ppt/media/image4.jpeg" ContentType="image/jpeg"/>
  <Override PartName="/ppt/media/image18.wmf" ContentType="image/x-wmf"/>
  <Override PartName="/ppt/media/image5.jpeg" ContentType="image/jpe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083" name="PlaceHolder 1"/>
          <p:cNvSpPr>
            <a:spLocks noGrp="1"/>
          </p:cNvSpPr>
          <p:nvPr>
            <p:ph type="hdr"/>
          </p:nvPr>
        </p:nvSpPr>
        <p:spPr>
          <a:xfrm>
            <a:off x="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4" name="PlaceHolder 2"/>
          <p:cNvSpPr>
            <a:spLocks noGrp="1"/>
          </p:cNvSpPr>
          <p:nvPr>
            <p:ph type="dt" idx="76"/>
          </p:nvPr>
        </p:nvSpPr>
        <p:spPr>
          <a:xfrm>
            <a:off x="389880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5" name="PlaceHolder 3"/>
          <p:cNvSpPr>
            <a:spLocks noGrp="1"/>
          </p:cNvSpPr>
          <p:nvPr>
            <p:ph type="sldImg"/>
          </p:nvPr>
        </p:nvSpPr>
        <p:spPr>
          <a:xfrm>
            <a:off x="966600" y="743040"/>
            <a:ext cx="4951080" cy="37130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086" name="PlaceHolder 4"/>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7" name="PlaceHolder 5"/>
          <p:cNvSpPr>
            <a:spLocks noGrp="1"/>
          </p:cNvSpPr>
          <p:nvPr>
            <p:ph type="ftr" idx="77"/>
          </p:nvPr>
        </p:nvSpPr>
        <p:spPr>
          <a:xfrm>
            <a:off x="0" y="9408960"/>
            <a:ext cx="2982960" cy="49536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088" name="PlaceHolder 6"/>
          <p:cNvSpPr>
            <a:spLocks noGrp="1"/>
          </p:cNvSpPr>
          <p:nvPr>
            <p:ph type="sldNum" idx="78"/>
          </p:nvPr>
        </p:nvSpPr>
        <p:spPr>
          <a:xfrm>
            <a:off x="3898800" y="9408960"/>
            <a:ext cx="29829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18F3-1959-4363-94E6-C2FBC77CAF4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66960" y="743040"/>
            <a:ext cx="4951080" cy="3713040"/>
          </a:xfrm>
          <a:prstGeom prst="rect">
            <a:avLst/>
          </a:prstGeom>
          <a:ln w="0">
            <a:noFill/>
          </a:ln>
        </p:spPr>
      </p:sp>
      <p:sp>
        <p:nvSpPr>
          <p:cNvPr id="119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y buenos días 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sta primera intervención sobre la Acción 2 del Erasmus Mundus pretende mostrar de forma general los resultados que ha generado/y que está generando una Acción de cooparación de gran envergadura y ambición tal y como lo muestran sus resultados tangibles y los no ta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5E41-D9DB-4CA2-BB55-ACDFD54F9641}"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66960" y="743040"/>
            <a:ext cx="4951080" cy="3713040"/>
          </a:xfrm>
          <a:prstGeom prst="rect">
            <a:avLst/>
          </a:prstGeom>
          <a:ln w="0">
            <a:noFill/>
          </a:ln>
        </p:spPr>
      </p:sp>
      <p:sp>
        <p:nvSpPr>
          <p:cNvPr id="1217"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s países agrupados bajo "Grupo A"  (Bolivia, Peru, Ecuador y Paraguay / Honduras, El Salvador, Guatemala, y Nicaragua), sin duda obliga a las universidades europeas a asociarse con los países menos desarrollados de Latin America, consiguiendo una buena cobertura geográfica!</a:t>
            </a:r>
            <a:endParaRPr b="0" lang="en-US" sz="1200" spc="-1" strike="noStrike">
              <a:solidFill>
                <a:srgbClr val="000000"/>
              </a:solidFill>
              <a:latin typeface="Arial"/>
            </a:endParaRPr>
          </a:p>
        </p:txBody>
      </p:sp>
      <p:sp>
        <p:nvSpPr>
          <p:cNvPr id="1218"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A9E-A83B-43FE-94EF-F47C04CCF4E1}"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66960" y="743040"/>
            <a:ext cx="4951080" cy="3713040"/>
          </a:xfrm>
          <a:prstGeom prst="rect">
            <a:avLst/>
          </a:prstGeom>
          <a:ln w="0">
            <a:noFill/>
          </a:ln>
        </p:spPr>
      </p:sp>
      <p:sp>
        <p:nvSpPr>
          <p:cNvPr id="122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gional: contribución a estrechar las relaciones entre UE/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aís: se puede decir que el programa habría contribuido en la cohesión social de los países participantes gracias a la participación de estudiantes en desventaja economica y social además de los TG3 así como los provenientes se las instituciones situadas en los estados con menos índice de desarrollo. (requerimientos todos ellos establecidos en la convocatoria para proyecto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stitucion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número de acuerdos bilaterales de cooperación suscritos entre las universidades; las áreas de investigación conjuntas iniciadas con la movilidad de un académico y que luego dan pie a otras movilidades; los cientos de proyectos/colaboraciones conjuntas que se han producido como consecuencia del estímulo dado a los estudiantes de doctorado co-tutelados por profesores de universisdad de origen y destino;  son solo algunos ejemplos del impacto causado por este program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Individual: experiencia personal, intercambio cultural, mejora en su carrera, mejor preparación, …etc</a:t>
            </a:r>
            <a:endParaRPr b="0" lang="en-US" sz="1200" spc="-1" strike="noStrike">
              <a:solidFill>
                <a:srgbClr val="000000"/>
              </a:solidFill>
              <a:latin typeface="Arial"/>
            </a:endParaRPr>
          </a:p>
        </p:txBody>
      </p:sp>
      <p:sp>
        <p:nvSpPr>
          <p:cNvPr id="122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8EB6-235C-415D-8731-465648206688}"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66960" y="743040"/>
            <a:ext cx="4951080" cy="3713040"/>
          </a:xfrm>
          <a:prstGeom prst="rect">
            <a:avLst/>
          </a:prstGeom>
          <a:ln w="0">
            <a:noFill/>
          </a:ln>
        </p:spPr>
      </p:sp>
      <p:sp>
        <p:nvSpPr>
          <p:cNvPr id="122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e acuerdo con las conclusiones extraidas del informe del ROM (Monitoreo sobre los resultados a  medio plazo de los proyectos de AL), se pueden apreciar los siguientes resultados</a:t>
            </a:r>
            <a:endParaRPr b="0" lang="en-US" sz="1200" spc="-1" strike="noStrike">
              <a:solidFill>
                <a:srgbClr val="000000"/>
              </a:solidFill>
              <a:latin typeface="Arial"/>
            </a:endParaRPr>
          </a:p>
        </p:txBody>
      </p:sp>
      <p:sp>
        <p:nvSpPr>
          <p:cNvPr id="1224"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499F-F26A-495C-98F5-29C5C8F6FB70}"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966960" y="743040"/>
            <a:ext cx="4951080" cy="3713040"/>
          </a:xfrm>
          <a:prstGeom prst="rect">
            <a:avLst/>
          </a:prstGeom>
          <a:ln w="0">
            <a:noFill/>
          </a:ln>
        </p:spPr>
      </p:sp>
      <p:sp>
        <p:nvSpPr>
          <p:cNvPr id="122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resultado de la repartición de los diferentes tipos de movilidad corresponde con los porcentajes establecidos en la convocatoria. De este modo, por ejemplo, se observa que las estancias de movilidad en estudios de pregrado representa casi un 40% tal y como requerido en las convocatorias…</a:t>
            </a:r>
            <a:endParaRPr b="0" lang="en-US" sz="1200" spc="-1" strike="noStrike">
              <a:solidFill>
                <a:srgbClr val="000000"/>
              </a:solidFill>
              <a:latin typeface="Arial"/>
            </a:endParaRPr>
          </a:p>
        </p:txBody>
      </p:sp>
      <p:sp>
        <p:nvSpPr>
          <p:cNvPr id="1227"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8227-83FC-48A0-973B-5FBEAF27A684}"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966960" y="743040"/>
            <a:ext cx="4951080" cy="3713040"/>
          </a:xfrm>
          <a:prstGeom prst="rect">
            <a:avLst/>
          </a:prstGeom>
          <a:ln w="0">
            <a:noFill/>
          </a:ln>
        </p:spPr>
      </p:sp>
      <p:sp>
        <p:nvSpPr>
          <p:cNvPr id="122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se beneficien de una beca EM deben ser latinoamericanos de cualquier país del Lote AL, en concreto: </a:t>
            </a:r>
            <a:br>
              <a:rPr sz="1200"/>
            </a:br>
            <a:r>
              <a:rPr b="0" lang="es-ES" sz="1200" spc="-1" strike="noStrike">
                <a:solidFill>
                  <a:srgbClr val="000000"/>
                </a:solidFill>
                <a:latin typeface="Arial"/>
              </a:rPr>
              <a:t>(TG1)/Grupo destinatario 1: tiene que estar registrado en uno de las universidades del partenariado. Mínimo 50% de la movilidad</a:t>
            </a:r>
            <a:br>
              <a:rPr sz="1200"/>
            </a:br>
            <a:r>
              <a:rPr b="0" lang="es-ES" sz="1200" spc="-1" strike="noStrike">
                <a:solidFill>
                  <a:srgbClr val="000000"/>
                </a:solidFill>
                <a:latin typeface="Arial"/>
              </a:rPr>
              <a:t>(TG2)/Grupo destinatario 2: registrado en una IES no incluida en el partenariado o haber obtenido un título universitario de una institución de estos países. Mínimo 20% de la movilidad</a:t>
            </a:r>
            <a:br>
              <a:rPr sz="1200"/>
            </a:br>
            <a:r>
              <a:rPr b="0" lang="es-ES" sz="1200" spc="-1" strike="noStrike">
                <a:solidFill>
                  <a:srgbClr val="000000"/>
                </a:solidFill>
                <a:latin typeface="Arial"/>
              </a:rPr>
              <a:t>(TG3)/Grupo destinatario 3: se debe encontrar en situaciones especialmente vulnerables, por razones sociales y políticas (por ejemplo, los solicitantes de la condición de refugiado o de asilo,  poblaciones indígenas o PDI). Mínimo 20% de la movilidad de AL debe de provenir de los países prioritatiros Grup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Figures are based only on the implemented mobility so far!))</a:t>
            </a:r>
            <a:endParaRPr b="0" lang="en-US" sz="1200" spc="-1" strike="noStrike">
              <a:solidFill>
                <a:srgbClr val="000000"/>
              </a:solidFill>
              <a:latin typeface="Arial"/>
            </a:endParaRPr>
          </a:p>
        </p:txBody>
      </p:sp>
      <p:sp>
        <p:nvSpPr>
          <p:cNvPr id="123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5D8-36FD-47EB-B90E-0DE0D6724A65}"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66960" y="743040"/>
            <a:ext cx="4951080" cy="3713040"/>
          </a:xfrm>
          <a:prstGeom prst="rect">
            <a:avLst/>
          </a:prstGeom>
          <a:ln w="0">
            <a:noFill/>
          </a:ln>
        </p:spPr>
      </p:sp>
      <p:sp>
        <p:nvSpPr>
          <p:cNvPr id="1232" name="PlaceHolder 2"/>
          <p:cNvSpPr>
            <a:spLocks noGrp="1"/>
          </p:cNvSpPr>
          <p:nvPr>
            <p:ph type="body"/>
          </p:nvPr>
        </p:nvSpPr>
        <p:spPr>
          <a:xfrm>
            <a:off x="687240" y="4704840"/>
            <a:ext cx="550872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323F-ABE8-40DB-8161-2623EDCEAE9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966960" y="743040"/>
            <a:ext cx="4951080" cy="3713040"/>
          </a:xfrm>
          <a:prstGeom prst="rect">
            <a:avLst/>
          </a:prstGeom>
          <a:ln w="0">
            <a:noFill/>
          </a:ln>
        </p:spPr>
      </p:sp>
      <p:sp>
        <p:nvSpPr>
          <p:cNvPr id="123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gunas universidades europeas son muy activas en este programa, son principalmente instituciones españolas, portuguesas, italianas y francesas por obvios motivos lingüísticos y de tradición pero también se observa la presencia importante de universidades latinoamericanas, Brazil…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 mimo tiempo es importante mencionar una ligera tendencia de cambio hacia otras universidades de países como Alemania, Holanda, Suecia con un 5% de acogida de estudiantes LA. En menor medida pero también interesantes son Polonia y Rep Checa quienes acogieron casi un 2% de las movi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A Host Ctr</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a:t>
            </a:r>
            <a:r>
              <a:rPr b="0" lang="en-GB" sz="1000" spc="-1" strike="noStrike">
                <a:solidFill>
                  <a:srgbClr val="000000"/>
                </a:solidFill>
                <a:latin typeface="Arial"/>
              </a:rPr>
              <a:t>	</a:t>
            </a:r>
            <a:r>
              <a:rPr b="1" lang="en-GB" sz="1200" spc="-1" strike="noStrike">
                <a:solidFill>
                  <a:srgbClr val="000000"/>
                </a:solidFill>
                <a:latin typeface="Calibri"/>
              </a:rPr>
              <a:t>42,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X</a:t>
            </a:r>
            <a:r>
              <a:rPr b="0" lang="en-GB" sz="1000" spc="-1" strike="noStrike">
                <a:solidFill>
                  <a:srgbClr val="000000"/>
                </a:solidFill>
                <a:latin typeface="Arial"/>
              </a:rPr>
              <a:t>	</a:t>
            </a:r>
            <a:r>
              <a:rPr b="0" lang="en-GB" sz="1200" spc="-1" strike="noStrike">
                <a:solidFill>
                  <a:srgbClr val="000000"/>
                </a:solidFill>
                <a:latin typeface="Calibri"/>
              </a:rPr>
              <a:t>8,2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a:t>
            </a:r>
            <a:r>
              <a:rPr b="0" lang="en-GB" sz="1000" spc="-1" strike="noStrike">
                <a:solidFill>
                  <a:srgbClr val="000000"/>
                </a:solidFill>
                <a:latin typeface="Arial"/>
              </a:rPr>
              <a:t>	</a:t>
            </a:r>
            <a:r>
              <a:rPr b="0" lang="en-GB" sz="1200" spc="-1" strike="noStrike">
                <a:solidFill>
                  <a:srgbClr val="000000"/>
                </a:solidFill>
                <a:latin typeface="Calibri"/>
              </a:rPr>
              <a:t>7,90%</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a:t>
            </a:r>
            <a:r>
              <a:rPr b="0" lang="en-GB" sz="1000" spc="-1" strike="noStrike">
                <a:solidFill>
                  <a:srgbClr val="000000"/>
                </a:solidFill>
                <a:latin typeface="Arial"/>
              </a:rPr>
              <a:t>	</a:t>
            </a:r>
            <a:r>
              <a:rPr b="0" lang="en-GB" sz="1200" spc="-1" strike="noStrike">
                <a:solidFill>
                  <a:srgbClr val="000000"/>
                </a:solidFill>
                <a:latin typeface="Calibri"/>
              </a:rPr>
              <a:t>7,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t>
            </a:r>
            <a:r>
              <a:rPr b="0" lang="en-GB" sz="1000" spc="-1" strike="noStrike">
                <a:solidFill>
                  <a:srgbClr val="000000"/>
                </a:solidFill>
                <a:latin typeface="Arial"/>
              </a:rPr>
              <a:t>	</a:t>
            </a:r>
            <a:r>
              <a:rPr b="0" lang="en-GB" sz="1200" spc="-1" strike="noStrike">
                <a:solidFill>
                  <a:srgbClr val="000000"/>
                </a:solidFill>
                <a:latin typeface="Calibri"/>
              </a:rPr>
              <a:t>4,35%</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Y</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a:t>
            </a:r>
            <a:r>
              <a:rPr b="0" lang="en-GB" sz="1000" spc="-1" strike="noStrike">
                <a:solidFill>
                  <a:srgbClr val="000000"/>
                </a:solidFill>
                <a:latin typeface="Arial"/>
              </a:rPr>
              <a:t>	</a:t>
            </a:r>
            <a:r>
              <a:rPr b="0" lang="en-GB" sz="1200" spc="-1" strike="noStrike">
                <a:solidFill>
                  <a:srgbClr val="000000"/>
                </a:solidFill>
                <a:latin typeface="Calibri"/>
              </a:rPr>
              <a:t>3,8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a:t>
            </a:r>
            <a:r>
              <a:rPr b="0" lang="en-GB" sz="1000" spc="-1" strike="noStrike">
                <a:solidFill>
                  <a:srgbClr val="000000"/>
                </a:solidFill>
                <a:latin typeface="Arial"/>
              </a:rPr>
              <a:t>	</a:t>
            </a:r>
            <a:r>
              <a:rPr b="0" lang="en-GB" sz="1200" spc="-1" strike="noStrike">
                <a:solidFill>
                  <a:srgbClr val="000000"/>
                </a:solidFill>
                <a:latin typeface="Calibri"/>
              </a:rPr>
              <a:t>3,7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a:t>
            </a:r>
            <a:r>
              <a:rPr b="0" lang="en-GB" sz="1000" spc="-1" strike="noStrike">
                <a:solidFill>
                  <a:srgbClr val="000000"/>
                </a:solidFill>
                <a:latin typeface="Arial"/>
              </a:rPr>
              <a:t>	</a:t>
            </a:r>
            <a:r>
              <a:rPr b="0" lang="en-GB" sz="1200" spc="-1" strike="noStrike">
                <a:solidFill>
                  <a:srgbClr val="000000"/>
                </a:solidFill>
                <a:latin typeface="Calibri"/>
              </a:rPr>
              <a:t>3,0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Y</a:t>
            </a:r>
            <a:r>
              <a:rPr b="0" lang="en-GB" sz="1000" spc="-1" strike="noStrike">
                <a:solidFill>
                  <a:srgbClr val="000000"/>
                </a:solidFill>
                <a:latin typeface="Arial"/>
              </a:rPr>
              <a:t>	</a:t>
            </a:r>
            <a:r>
              <a:rPr b="0" lang="en-GB" sz="1200" spc="-1" strike="noStrike">
                <a:solidFill>
                  <a:srgbClr val="000000"/>
                </a:solidFill>
                <a:latin typeface="Calibri"/>
              </a:rPr>
              <a:t>2,4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a:t>
            </a:r>
            <a:r>
              <a:rPr b="0" lang="en-GB" sz="1000" spc="-1" strike="noStrike">
                <a:solidFill>
                  <a:srgbClr val="000000"/>
                </a:solidFill>
                <a:latin typeface="Arial"/>
              </a:rPr>
              <a:t>	</a:t>
            </a:r>
            <a:r>
              <a:rPr b="0" lang="en-GB" sz="1200" spc="-1" strike="noStrike">
                <a:solidFill>
                  <a:srgbClr val="000000"/>
                </a:solidFill>
                <a:latin typeface="Calibri"/>
              </a:rPr>
              <a:t>2,2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a:t>
            </a:r>
            <a:r>
              <a:rPr b="0" lang="en-GB" sz="1000" spc="-1" strike="noStrike">
                <a:solidFill>
                  <a:srgbClr val="000000"/>
                </a:solidFill>
                <a:latin typeface="Arial"/>
              </a:rPr>
              <a:t>	</a:t>
            </a:r>
            <a:r>
              <a:rPr b="0" lang="en-GB" sz="1200" spc="-1" strike="noStrike">
                <a:solidFill>
                  <a:srgbClr val="000000"/>
                </a:solidFill>
                <a:latin typeface="Calibri"/>
              </a:rPr>
              <a:t>1,29%</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a:t>
            </a:r>
            <a:r>
              <a:rPr b="0" lang="en-GB" sz="1000" spc="-1" strike="noStrike">
                <a:solidFill>
                  <a:srgbClr val="000000"/>
                </a:solidFill>
                <a:latin typeface="Arial"/>
              </a:rPr>
              <a:t>	</a:t>
            </a:r>
            <a:r>
              <a:rPr b="0" lang="en-GB" sz="1200" spc="-1" strike="noStrike">
                <a:solidFill>
                  <a:srgbClr val="000000"/>
                </a:solidFill>
                <a:latin typeface="Calibri"/>
              </a:rPr>
              <a:t>1,1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a:t>
            </a:r>
            <a:r>
              <a:rPr b="0" lang="en-GB" sz="1000" spc="-1" strike="noStrike">
                <a:solidFill>
                  <a:srgbClr val="000000"/>
                </a:solidFill>
                <a:latin typeface="Arial"/>
              </a:rPr>
              <a:t>	</a:t>
            </a:r>
            <a:r>
              <a:rPr b="0" lang="en-GB" sz="1200" spc="-1" strike="noStrike">
                <a:solidFill>
                  <a:srgbClr val="000000"/>
                </a:solidFill>
                <a:latin typeface="Calibri"/>
              </a:rPr>
              <a:t>0,9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a:t>
            </a:r>
            <a:r>
              <a:rPr b="0" lang="en-GB" sz="1000" spc="-1" strike="noStrike">
                <a:solidFill>
                  <a:srgbClr val="000000"/>
                </a:solidFill>
                <a:latin typeface="Arial"/>
              </a:rPr>
              <a:t>	</a:t>
            </a:r>
            <a:r>
              <a:rPr b="0" lang="en-GB" sz="1200" spc="-1" strike="noStrike">
                <a:solidFill>
                  <a:srgbClr val="000000"/>
                </a:solidFill>
                <a:latin typeface="Calibri"/>
              </a:rPr>
              <a:t>0,8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V</a:t>
            </a:r>
            <a:r>
              <a:rPr b="0" lang="en-GB" sz="1000" spc="-1" strike="noStrike">
                <a:solidFill>
                  <a:srgbClr val="000000"/>
                </a:solidFill>
                <a:latin typeface="Arial"/>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N</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L</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 Host Ct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a:t>
            </a:r>
            <a:r>
              <a:rPr b="0" lang="en-GB" sz="1200" spc="-1" strike="noStrike">
                <a:solidFill>
                  <a:srgbClr val="000000"/>
                </a:solidFill>
                <a:latin typeface="Calibri"/>
              </a:rPr>
              <a:t>	</a:t>
            </a:r>
            <a:r>
              <a:rPr b="1" lang="en-GB" sz="1200" spc="-1" strike="noStrike">
                <a:solidFill>
                  <a:srgbClr val="000000"/>
                </a:solidFill>
                <a:latin typeface="Calibri"/>
              </a:rPr>
              <a:t>42,4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T</a:t>
            </a:r>
            <a:r>
              <a:rPr b="0" lang="en-GB" sz="1200" spc="-1" strike="noStrike">
                <a:solidFill>
                  <a:srgbClr val="000000"/>
                </a:solidFill>
                <a:latin typeface="Calibri"/>
              </a:rPr>
              <a:t>	</a:t>
            </a:r>
            <a:r>
              <a:rPr b="1" lang="en-GB" sz="1200" spc="-1" strike="noStrike">
                <a:solidFill>
                  <a:srgbClr val="000000"/>
                </a:solidFill>
                <a:latin typeface="Calibri"/>
              </a:rPr>
              <a:t>14,0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a:t>
            </a:r>
            <a:r>
              <a:rPr b="0" lang="en-GB" sz="1200" spc="-1" strike="noStrike">
                <a:solidFill>
                  <a:srgbClr val="000000"/>
                </a:solidFill>
                <a:latin typeface="Calibri"/>
              </a:rPr>
              <a:t>	</a:t>
            </a:r>
            <a:r>
              <a:rPr b="1" lang="en-GB" sz="1200" spc="-1" strike="noStrike">
                <a:solidFill>
                  <a:srgbClr val="000000"/>
                </a:solidFill>
                <a:latin typeface="Calibri"/>
              </a:rPr>
              <a:t>10,6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t>
            </a:r>
            <a:r>
              <a:rPr b="0" lang="en-GB" sz="1200" spc="-1" strike="noStrike">
                <a:solidFill>
                  <a:srgbClr val="000000"/>
                </a:solidFill>
                <a:latin typeface="Calibri"/>
              </a:rPr>
              <a:t>	</a:t>
            </a:r>
            <a:r>
              <a:rPr b="0" lang="en-GB" sz="1200" spc="-1" strike="noStrike">
                <a:solidFill>
                  <a:srgbClr val="000000"/>
                </a:solidFill>
                <a:latin typeface="Calibri"/>
              </a:rPr>
              <a:t>6,6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t>
            </a:r>
            <a:r>
              <a:rPr b="0" lang="en-GB" sz="1200" spc="-1" strike="noStrike">
                <a:solidFill>
                  <a:srgbClr val="000000"/>
                </a:solidFill>
                <a:latin typeface="Calibri"/>
              </a:rPr>
              <a:t>	</a:t>
            </a:r>
            <a:r>
              <a:rPr b="0" lang="en-GB" sz="1200" spc="-1" strike="noStrike">
                <a:solidFill>
                  <a:srgbClr val="000000"/>
                </a:solidFill>
                <a:latin typeface="Calibri"/>
              </a:rPr>
              <a:t>6,12%</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a:t>
            </a:r>
            <a:r>
              <a:rPr b="0" lang="en-GB" sz="1200" spc="-1" strike="noStrike">
                <a:solidFill>
                  <a:srgbClr val="000000"/>
                </a:solidFill>
                <a:latin typeface="Calibri"/>
              </a:rPr>
              <a:t>	</a:t>
            </a:r>
            <a:r>
              <a:rPr b="0" lang="en-GB" sz="1200" spc="-1" strike="noStrike">
                <a:solidFill>
                  <a:srgbClr val="000000"/>
                </a:solidFill>
                <a:latin typeface="Calibri"/>
              </a:rPr>
              <a:t>5,3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L</a:t>
            </a:r>
            <a:r>
              <a:rPr b="0" lang="en-GB" sz="1200" spc="-1" strike="noStrike">
                <a:solidFill>
                  <a:srgbClr val="000000"/>
                </a:solidFill>
                <a:latin typeface="Calibri"/>
              </a:rPr>
              <a:t>	</a:t>
            </a:r>
            <a:r>
              <a:rPr b="0" lang="en-GB" sz="1200" spc="-1" strike="noStrike">
                <a:solidFill>
                  <a:srgbClr val="000000"/>
                </a:solidFill>
                <a:latin typeface="Calibri"/>
              </a:rPr>
              <a:t>4,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a:t>
            </a:r>
            <a:r>
              <a:rPr b="0" lang="en-GB" sz="1200" spc="-1" strike="noStrike">
                <a:solidFill>
                  <a:srgbClr val="000000"/>
                </a:solidFill>
                <a:latin typeface="Calibri"/>
              </a:rPr>
              <a:t>	</a:t>
            </a:r>
            <a:r>
              <a:rPr b="0" lang="en-GB" sz="1200" spc="-1" strike="noStrike">
                <a:solidFill>
                  <a:srgbClr val="000000"/>
                </a:solidFill>
                <a:latin typeface="Calibri"/>
              </a:rPr>
              <a:t>4,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Z</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U</a:t>
            </a:r>
            <a:r>
              <a:rPr b="0" lang="en-GB" sz="1200" spc="-1" strike="noStrike">
                <a:solidFill>
                  <a:srgbClr val="000000"/>
                </a:solidFill>
                <a:latin typeface="Calibri"/>
              </a:rPr>
              <a:t>	</a:t>
            </a:r>
            <a:r>
              <a:rPr b="0" lang="en-GB" sz="1200" spc="-1" strike="noStrike">
                <a:solidFill>
                  <a:srgbClr val="000000"/>
                </a:solidFill>
                <a:latin typeface="Calibri"/>
              </a:rPr>
              <a:t>0,8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a:t>
            </a:r>
            <a:r>
              <a:rPr b="0" lang="en-GB" sz="1200" spc="-1" strike="noStrike">
                <a:solidFill>
                  <a:srgbClr val="000000"/>
                </a:solidFill>
                <a:latin typeface="Calibri"/>
              </a:rPr>
              <a:t>	</a:t>
            </a:r>
            <a:r>
              <a:rPr b="0" lang="en-GB" sz="1200" spc="-1" strike="noStrike">
                <a:solidFill>
                  <a:srgbClr val="000000"/>
                </a:solidFill>
                <a:latin typeface="Calibri"/>
              </a:rPr>
              <a:t>0,84%</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K</a:t>
            </a:r>
            <a:r>
              <a:rPr b="0" lang="en-GB" sz="1200" spc="-1" strike="noStrike">
                <a:solidFill>
                  <a:srgbClr val="000000"/>
                </a:solidFill>
                <a:latin typeface="Calibri"/>
              </a:rPr>
              <a:t>	</a:t>
            </a:r>
            <a:r>
              <a:rPr b="0" lang="en-GB" sz="1200" spc="-1" strike="noStrike">
                <a:solidFill>
                  <a:srgbClr val="000000"/>
                </a:solidFill>
                <a:latin typeface="Calibri"/>
              </a:rPr>
              <a:t>0,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a:t>
            </a:r>
            <a:r>
              <a:rPr b="0" lang="en-GB" sz="1200" spc="-1" strike="noStrike">
                <a:solidFill>
                  <a:srgbClr val="000000"/>
                </a:solidFill>
                <a:latin typeface="Calibri"/>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t>
            </a:r>
            <a:r>
              <a:rPr b="0" lang="en-GB" sz="1200" spc="-1" strike="noStrike">
                <a:solidFill>
                  <a:srgbClr val="000000"/>
                </a:solidFill>
                <a:latin typeface="Calibri"/>
              </a:rPr>
              <a:t>	</a:t>
            </a:r>
            <a:r>
              <a:rPr b="0" lang="en-GB" sz="1200" spc="-1" strike="noStrike">
                <a:solidFill>
                  <a:srgbClr val="000000"/>
                </a:solidFill>
                <a:latin typeface="Calibri"/>
              </a:rPr>
              <a:t>0,2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t>
            </a:r>
            <a:r>
              <a:rPr b="0" lang="en-GB" sz="1200" spc="-1" strike="noStrike">
                <a:solidFill>
                  <a:srgbClr val="000000"/>
                </a:solidFill>
                <a:latin typeface="Calibri"/>
              </a:rPr>
              <a:t>	</a:t>
            </a:r>
            <a:r>
              <a:rPr b="0" lang="en-GB" sz="1200" spc="-1" strike="noStrike">
                <a:solidFill>
                  <a:srgbClr val="000000"/>
                </a:solidFill>
                <a:latin typeface="Calibri"/>
              </a:rPr>
              <a:t>0,1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a:t>
            </a:r>
            <a:r>
              <a:rPr b="0" lang="en-GB" sz="1200" spc="-1" strike="noStrike">
                <a:solidFill>
                  <a:srgbClr val="000000"/>
                </a:solidFill>
                <a:latin typeface="Calibri"/>
              </a:rPr>
              <a:t>	</a:t>
            </a:r>
            <a:r>
              <a:rPr b="0" lang="en-GB" sz="1200" spc="-1" strike="noStrike">
                <a:solidFill>
                  <a:srgbClr val="000000"/>
                </a:solidFill>
                <a:latin typeface="Calibri"/>
              </a:rPr>
              <a:t>0,1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K</a:t>
            </a:r>
            <a:r>
              <a:rPr b="0" lang="en-GB" sz="1200" spc="-1" strike="noStrike">
                <a:solidFill>
                  <a:srgbClr val="000000"/>
                </a:solidFill>
                <a:latin typeface="Calibri"/>
              </a:rPr>
              <a:t>	</a:t>
            </a:r>
            <a:r>
              <a:rPr b="0" lang="en-GB" sz="1200" spc="-1" strike="noStrike">
                <a:solidFill>
                  <a:srgbClr val="000000"/>
                </a:solidFill>
                <a:latin typeface="Calibri"/>
              </a:rPr>
              <a:t>0,0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5267-8A39-4565-9AE6-882414228C76}"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966960" y="743040"/>
            <a:ext cx="4951080" cy="3713040"/>
          </a:xfrm>
          <a:prstGeom prst="rect">
            <a:avLst/>
          </a:prstGeom>
          <a:ln w="0">
            <a:noFill/>
          </a:ln>
        </p:spPr>
      </p:sp>
      <p:sp>
        <p:nvSpPr>
          <p:cNvPr id="123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lgunas preguntas que invitan a la reflexión… /A modo de conclusion os invito a reflexionar y debatir mañana en los taller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El participar en un proyecto de EM ha ofrecido muchas posibilidades a las universidades de invertir en una trayectoria internacional; de obtener resultados; de entablar acuerdos para trabjar conjuntamente….</a:t>
            </a:r>
            <a:endParaRPr b="0" lang="en-US" sz="1200" spc="-1" strike="noStrike">
              <a:solidFill>
                <a:srgbClr val="000000"/>
              </a:solidFill>
              <a:latin typeface="Arial"/>
            </a:endParaRPr>
          </a:p>
        </p:txBody>
      </p:sp>
      <p:sp>
        <p:nvSpPr>
          <p:cNvPr id="1239"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F6D9-BECB-4591-8917-EDB2DE6C35B0}"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966960" y="743040"/>
            <a:ext cx="4951080" cy="3713040"/>
          </a:xfrm>
          <a:prstGeom prst="rect">
            <a:avLst/>
          </a:prstGeom>
          <a:ln w="0">
            <a:noFill/>
          </a:ln>
        </p:spPr>
      </p:sp>
      <p:sp>
        <p:nvSpPr>
          <p:cNvPr id="119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programa abarca tres tipos de acci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maestría o doctorado conju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estancia en otra universidad bajo cualquier tipo de nivel de estud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ejecución de proyectos para apoyar </a:t>
            </a:r>
            <a:r>
              <a:rPr b="0" lang="es-ES" sz="1200" spc="-1" strike="noStrike">
                <a:solidFill>
                  <a:srgbClr val="000000"/>
                </a:solidFill>
                <a:latin typeface="Arial"/>
              </a:rPr>
              <a:t>iniciativas transnacionales, eventos, estudios y otras actividades que: fomenten la educación superior europea y que aborden los problemas de la cooperación internacional de educación superi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CC8A-3318-4365-A0CB-641779B459D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66960" y="743040"/>
            <a:ext cx="4951080" cy="3713040"/>
          </a:xfrm>
          <a:prstGeom prst="rect">
            <a:avLst/>
          </a:prstGeom>
          <a:ln w="0">
            <a:noFill/>
          </a:ln>
        </p:spPr>
      </p:sp>
      <p:sp>
        <p:nvSpPr>
          <p:cNvPr id="119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marco de la Acción 2 – Partenari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total de 277 partenariados han sido constituidos a nivel mun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altan las mil cuatrocientas veinti una diferentes universidades involucradas en este escenario que han logrado moviliazar 44.490 entre estudiantes y personal académico y administ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7"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C272-4F03-4D24-90AA-9A57986A887B}"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966960" y="743040"/>
            <a:ext cx="4951080" cy="3713040"/>
          </a:xfrm>
          <a:prstGeom prst="rect">
            <a:avLst/>
          </a:prstGeom>
          <a:ln w="0">
            <a:noFill/>
          </a:ln>
        </p:spPr>
      </p:sp>
      <p:sp>
        <p:nvSpPr>
          <p:cNvPr id="119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a estas cifras añadimos los proyectos recien seleccionados (2014) estaríamos hablando de un total de 53 partenariados entre países de la UE y de América Latina constituidos a lo largo del programa desde 2008 hasta hoy.</a:t>
            </a:r>
            <a:endParaRPr b="0" lang="en-US" sz="1200" spc="-1" strike="noStrike">
              <a:solidFill>
                <a:srgbClr val="000000"/>
              </a:solidFill>
              <a:latin typeface="Arial"/>
            </a:endParaRPr>
          </a:p>
        </p:txBody>
      </p:sp>
      <p:sp>
        <p:nvSpPr>
          <p:cNvPr id="120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B3B6-0919-4F3D-945A-345D3FB308C3}"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66960" y="743040"/>
            <a:ext cx="4951080" cy="3713040"/>
          </a:xfrm>
          <a:prstGeom prst="rect">
            <a:avLst/>
          </a:prstGeom>
          <a:ln w="0">
            <a:noFill/>
          </a:ln>
        </p:spPr>
      </p:sp>
      <p:sp>
        <p:nvSpPr>
          <p:cNvPr id="1202"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quí tenemos un ejempl de algunos de estos partenariados….</a:t>
            </a:r>
            <a:endParaRPr b="0" lang="en-US" sz="1200" spc="-1" strike="noStrike">
              <a:solidFill>
                <a:srgbClr val="000000"/>
              </a:solidFill>
              <a:latin typeface="Arial"/>
            </a:endParaRPr>
          </a:p>
        </p:txBody>
      </p:sp>
      <p:sp>
        <p:nvSpPr>
          <p:cNvPr id="1203"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079B-14AE-4299-ACF3-70F9CD3BF8DA}"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66960" y="743040"/>
            <a:ext cx="4951080" cy="3713040"/>
          </a:xfrm>
          <a:prstGeom prst="rect">
            <a:avLst/>
          </a:prstGeom>
          <a:ln w="0">
            <a:noFill/>
          </a:ln>
        </p:spPr>
      </p:sp>
      <p:sp>
        <p:nvSpPr>
          <p:cNvPr id="120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s prioridades definidas para esta programa y en particular en la región de América Latina implican alcanzar objetivos que suponen, por veces dasafios para lograr obtener resultados así como generar un imp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6"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6C61-DC74-426B-8F40-F6152D1A13E4}"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66960" y="743040"/>
            <a:ext cx="4951080" cy="3713040"/>
          </a:xfrm>
          <a:prstGeom prst="rect">
            <a:avLst/>
          </a:prstGeom>
          <a:ln w="0">
            <a:noFill/>
          </a:ln>
        </p:spPr>
      </p:sp>
      <p:sp>
        <p:nvSpPr>
          <p:cNvPr id="120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ecer la participación de Uniersidades ubicadas en areas menos desarrolla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a prioridad/objetivo es contribuir a ofrecer a buenos alumnos de los grupos vulnerables (es decir, refugiados, pueblos indígenas…) una Educación continua y el desarrollo profesional que les capacite como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bién se ha buscado favorecer la participación de estudiantes con buen mérito académico y en condiciones de desventaja socio-económica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9"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E7CF-58F1-4923-AF78-90FD458E2595}"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66960" y="743040"/>
            <a:ext cx="4951080" cy="3713040"/>
          </a:xfrm>
          <a:prstGeom prst="rect">
            <a:avLst/>
          </a:prstGeom>
          <a:ln w="0">
            <a:noFill/>
          </a:ln>
        </p:spPr>
      </p:sp>
      <p:sp>
        <p:nvSpPr>
          <p:cNvPr id="1211"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prioridad para esta región de América Latina relativa a la cobertura geográfica ha estimulado la incorporación, en los partenariados, de universidades de menor tamaño y sobre todo de áreas geográficas periféricas que normalmente no estan presentes en estos pro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el caso de Argentina, por ejemplo, se ha logrado incluir universidades remotas que han podido aprovechar la dinámica y experiencia de las universidades mas grandes</a:t>
            </a:r>
            <a:endParaRPr b="0" lang="en-US" sz="1200" spc="-1" strike="noStrike">
              <a:solidFill>
                <a:srgbClr val="000000"/>
              </a:solidFill>
              <a:latin typeface="Arial"/>
            </a:endParaRPr>
          </a:p>
        </p:txBody>
      </p:sp>
      <p:sp>
        <p:nvSpPr>
          <p:cNvPr id="1212"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E809-8210-4DB4-A7E2-FEF89B0CAC8C}"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66960" y="743040"/>
            <a:ext cx="4951080" cy="3713040"/>
          </a:xfrm>
          <a:prstGeom prst="rect">
            <a:avLst/>
          </a:prstGeom>
          <a:ln w="0">
            <a:noFill/>
          </a:ln>
        </p:spPr>
      </p:sp>
      <p:sp>
        <p:nvSpPr>
          <p:cNvPr id="1214"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uchos de los sistemas de educación superior latinoamericanos se enfrentan a retos considerables, como por ejemplo la necesidad de desarrollar los recursos humanos con el fin de mejorar la calidad académica. La incapacidad de producir individuos quilificados se ve agravada por la fuga de cerebros, que reduce la capacidad de las regiones para competir en la economía global y el desarrollo de una sociedad basada cada vez mas en el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l programa  EM ha querido retar estas dificultades y dar la oportunidad a miles de estudiantes y de personal académico de estudiar en Europa, contribuyendo de esta forma a mejorar el nivel de recursos humanos….Al tiempo que las instituciones de donde provienen tienen la oportunidad de intervenir en una escena inter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enariados de EM-AL han enfrentado el desafío de desarrollar una cooperación eficiente y eficaz a nivel de la educación superior en un escenario regional muy diferenciado de un país al otro. La cooperación ha demostrado ser exitosa con una motivación extraordinaria proveniente de todos por el bien e interés de los estudiantes y las instituciones involuc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Se observa cómo el proceso de internacionalización es un punto prioritario en la agenda de todas las IES en AL, desde los más pequeños con menos experiencia a los mas grandes con mas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5"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0FED-618B-4FE0-A3E9-C8ADAA50BE36}"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CD93B-C646-40D5-993E-58E5028F6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5000-A519-46DC-864D-5C457F9D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C8E5768-E49D-428E-B5CC-C9FD8D58E7C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D84E82D-FE30-4BEA-BCE3-5BEF300EFA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50B96E7-E21B-44AF-B429-DAC198D0BC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F9C2DB9-DD58-432B-82FF-DDB267EBDCC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BFEA68-292C-47F3-B7D5-FB31B7F9457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1179BFB-8F03-48DC-BC51-A5B6558D7CC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5A96867-DB02-45A1-9B89-AB564B7F4D0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6EB3FF7-D3CB-4E7D-AF68-826FE4E3B77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4E88B37-C3C7-4F35-B981-D3D0DA39353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18C8F3E-394F-49EF-A65D-D9B2646AD4D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702A7-EAF9-434A-9975-4F83F5D1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BAB0EDA-AEA3-4F2D-8AD4-1700AB9170D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C1B1D20-EC24-494B-A942-E266A45B6B7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9E4DDB-1A06-4FE5-B440-89B8473A4B6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E70069D-E821-4E52-93F6-F5CB3931E3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BF8FF87-8357-4FFC-BEE7-23B0CBB468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0CF824-CEE4-4245-B091-803B2362C6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54355C7-1141-4A40-BEF8-34466554BC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54DE6A-A1EC-4EA1-BB48-1032A9B610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CEBA7F-EB0E-48B5-BE0D-603D7CA416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FCF9EB1-7F64-4018-B047-90BD9399C15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60149-5BB7-4AC2-BB18-9C0FB8A85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F642904-723A-44B2-AC61-6C6995A2F1D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FE74F62-6D14-4967-B2ED-9F4EBF36A6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F9687E4-77B4-42BE-8FE0-4B98870F9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6BE8359-047F-43B2-88E1-AA70B553B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C34544E-2E6D-4AEE-9F98-80F72B08AA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6489076-1354-4D8B-9599-FA75FDCB2C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335D14E-B0DC-4E9F-8AE4-B81AB0A501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39EF6E-7C1F-44DC-9923-4E3D34D210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73DE0C-D5E4-4864-9B40-2A8F214D6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23C2DB-81BE-4C3B-922C-8E4DAF890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A8F92-380A-42B1-A990-AC476121A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4CED440-3797-4AFE-8682-5D3ACFCF09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95FA274-83B2-4EC0-BAC5-AB52728DF8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11FA434-B77A-4D8F-882C-C79DF2350F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6C53825-EE69-426D-9A7A-E1A97B3033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39A9CC5-66DA-423C-881D-0E7A197CCF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99DDB29-C771-4472-9235-F5C4E98FB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A217B01-8A0D-458F-8A30-BD4531F19B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4EFBEEC-BF3F-496E-9A44-B12FC33B8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7F5FABF-05C8-4B68-A07E-516AD82794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2AB3FD2-2229-4405-B189-71B118866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EC8B1-AEE7-467F-A9FC-9F9A1DA75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976FA4A-6AB7-49E2-A21B-2318EE5C6E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D911459-0CF4-49B0-940C-922B42039B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EEB605A-A4E1-4098-989C-80AA5FEA6A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878EA7E-3618-41C4-B9CE-E70873DF9C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897CC84-17E1-43F6-81EA-10317057C3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C07489B-24EE-442C-911B-8C414635E0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EBA30D9-BF23-49B1-AC2C-76D887D73A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D0A46E4-1F70-4D5B-A87A-67BBE0BC05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BE84D6B-26BD-4A58-952E-E60EEE34C3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DD15FC6-FE10-44EF-B351-224B9FDD2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5BA70-8057-4C05-B150-48952C2E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F641915-5687-4F97-99ED-2323F1848A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6E23469-7AC8-4D9A-88D8-F805003CF2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D70D505-534E-4AEA-86E0-FD84E8B06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352FEC6-FBC6-4469-ADC6-A7FCD2520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3E986F2-99C7-441F-874F-BA256271C5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33DFACD-9840-4FC4-B650-99777D0B89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CBF7C45-DE71-47A5-9D01-E31166EFFF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CFD6AD8-B397-4F4C-B627-AC32BD8A6E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1A3EE47-71E8-4726-9E3C-B9248AE92E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D5EA34B-BE9C-4C6C-A147-2F80AE295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A70E5-CF9F-4BBD-AA7E-6E5242CC9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0EE432C-74A9-42D6-A9F7-E2147C0ADA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0D1EB0E-829C-4991-BFAC-5D736F57D5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7030D52-673C-4A48-BC3B-7546630D6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09633C3-1A11-4218-AA68-496618945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9D652C9-BFC0-460B-AB31-2D7498DFD4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77FB541-7089-420D-97CD-CA322A1E77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71EF523-A7CD-4E65-8729-8C72E2486E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FB12C09-8841-43DE-AAD2-AF8BEFEA17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3B3B503-2042-44C0-A625-4D87F85746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79C071D-0563-441A-9EEB-4890BD8BFF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82D1B-947F-4BD5-8687-1B40622F5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36BF522-5302-4918-A567-C3A1F85A06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B277066-6450-41FE-BB4D-358D0BE96A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A79EDFE-D3C0-4242-B79C-8E6FE91EE4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664FCD5-0AF7-4F29-AE49-EE45126EAC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E82F726-28A8-427D-A7AE-B3F4FBEE6D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42781C2-FBEE-4DDD-A73A-49BBFB27EC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223F5F6-45FE-4BD9-98C4-D77F1946D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7BFA38E-B672-4075-B01C-4CF453DD3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13E51C6-9959-4F25-9583-C5E5597C8F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B51AFE5-B30E-4154-856D-2A57178625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F0B21-238D-464E-898F-09A417F04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9C8CCAB-82FB-4386-8F9F-39C8781F42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B62FE98-426D-4A0C-BA36-E3286F17ED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46BA9B7-0906-42E8-95D4-C440688CEB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69DF792-97AD-41BD-86B5-E5DEAEBE5F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CB5CB71-6C1C-41D1-B2B9-C0E234D3E5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247C3F3-8656-4136-BC33-93D31AB8D6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B140C31-BD14-4309-BEAA-04BA50E720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D229DFE-83F2-446B-A864-D9F5A111C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E288B96-9097-401D-9D09-F984B093B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CEA2D18-5554-4D83-AB62-5FB735E9D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46CF-BF1A-40EE-8372-24BE7834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49B34EF-F0B7-40C9-8547-5B2B0F5C9E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8C9FF63-74AD-44E7-AC12-7399253963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846CFBD-80C8-4755-98C4-B7BC54D97C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D79247E-4A16-43AF-8673-30CF4A79F7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0F1DF85-2252-4C29-B1B6-9F6AEC4D52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6F51C35-9640-4A59-94B4-388E6F1FA5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6277953-4FEA-4FBB-8B41-DAFE7587BB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D35C957-E46B-41D2-8263-42B9FFF5FF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D7C0E7B-403D-42B7-AD9E-D2411C722A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6CD6FA3-DAA2-4273-B239-547EB1C9D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A283-0F71-498D-BDCB-62064C677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4CA7-1F5E-4DD7-A783-C837310E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E50F1FA-10BF-4292-97A1-C231D649F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F9B14A3-2054-4DA8-8D01-4DDEF518C4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2A6B70D-A60D-48D2-B790-9C7E6FD23C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D52CF3E-229B-4075-B6C0-FA8934CBD8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8D3E87C-FC5F-4E24-A7DB-B5C6B60FFD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67828AF-A116-4184-B7F4-D5D1CACAD04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70BCB43-CDD0-4DEB-A3AF-73F3354E755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1E79CE6-CAF8-42CB-B99B-AA136FCAF77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132C2BF-E584-4FC7-8191-6F59EC1C75E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D08E115-F52E-4B81-A68B-0BA1EA4165B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F4AD4-37BA-4935-8257-6D3D96FB9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A646220-D7A9-4E79-BAF1-C94BC733F39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AA4419B-7C23-4467-9576-6C3D98346E3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C906575-62D2-466A-898C-E79822C70DF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55FF20A-6A4B-4F50-B81C-01A70127ADA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02DEBF9-5810-4F4B-B0B3-691093E6F89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012FCA3-CE77-401F-8125-6727BF0057C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FA0B61A5-2D80-44E7-A9A4-9F683D62587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E4532C7-CFFF-4E7F-BB02-A15CCE9BD0C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2EBCB76-4864-4919-B14C-3831B9299EA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AEBC7EF-4690-4F67-929B-13194ED3BC0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F19A8-E46C-411D-9B7D-9D8024AE9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737A358-9F2C-480F-A2CC-063D12432C9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5AC34D5-3CE6-4020-B9E4-A8F33313B04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6DCF0C5-071F-483E-B813-DEB1E5294C7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9905193-CD54-4413-9942-CA7EA25B401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B6AE801-0FC3-4111-A584-FAE26A0EF23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8239BF4-1F4A-4EED-8891-D040F741FD3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21938FF-100E-485E-8963-078D80D1039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1C16F12-F5F5-4207-AB85-3A883082CD5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FA969B1-3166-497A-9A20-A1F14C03B41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994861B-0DEE-4A47-A0B8-AB614AF67F3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B643C-E414-48C7-925F-70F69F226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81B4AC3-12CD-4D03-B047-7AD9BD2B045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6B58573-8A41-4290-9B8C-6E33E54B14D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B3D900C-F3B0-429C-BD9E-22430166C19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A76214D-A54E-4C83-A624-87B1359FA3A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FC700CE-9824-4D0F-B5B6-B1655DEA6B3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F967AB8-BAA8-40CA-811E-27855110963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FEAB8C5-7DA7-425A-9CD0-B0A4EE41782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9441A78-4C0C-420D-8A70-21691FD3D44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123F3A9-3694-43EB-8D6C-FC81777C8A8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59B1D31-CB31-4661-95A1-D970D90014BC}"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0F3F6-8AF6-41D7-863D-5A747279A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720BC2F1-A78E-48EF-A100-ED053A12C998}"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4B3E0D00-FEFA-4604-9625-128C639BA84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EE2126A-89FB-45EC-AA55-03B10042624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1DF94F8-8D04-4036-B01A-66C4C3C0F58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AEE6C92-7A1E-4C84-93EA-F05170BCBC2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F2C1ACE-76AB-4394-A296-3221B9E1990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F773204-630F-41FA-8A70-0C539E408EC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796E53F-CBB9-4FD1-B4A6-20144ACF657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D768AD7-4120-46E4-9390-7FDE96A9D2A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88FFC1B-3EFC-4046-981A-76B1233F815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A6DBAC-F3B5-4286-9686-6621A00AD74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6240C1A-9E70-4603-938A-E0D104978D8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362A553D-A4D1-43EA-8865-A08B678E740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59F7A639-138E-4F6A-9FDA-4B6CCDB8B6D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522226D4-2291-484B-A18C-4BE0136A344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1D2FD85-1B55-43DD-B4D7-2ACDE247657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26F7EAB6-A859-4E3D-A8C1-70273C993CA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125F1D5-BD0F-4CDC-92C7-5A24A9C8F10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5C11307-B3B5-4A01-9F1D-1530F34FA2D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672F2C8-DC75-4F34-B62B-15E5B3AB314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F1D4D82-58F2-4A31-BA05-192C2CF2FFD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CDFF55BF-D4CC-4C0A-9BE2-3D549004A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C4E221F-9FF9-4BA3-9C52-8A1DE7D93B7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B414088-7E07-4369-B50C-95587F0FCE9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7AEF6AC-E547-4838-A188-7AB87FE1337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FB8E203A-0B66-4540-A6BD-D52A194D115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E28DFD9-9634-4058-BE18-5C02B4CFB9F7}"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03747AFE-BDD4-48BD-B336-727D62F6C3E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1118A28-E850-44D5-874F-1931A9F0658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5E53F5A-CC79-462E-A767-74695633304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5AB7FDE-E9E5-4CD1-A8A9-382A00A7D8D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5F968EB-D0CD-4DE6-A059-08DD6730450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75849048-B872-45D8-914C-BC5474B55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62BCB17-1D45-45D7-9271-36C2F4B900B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86C4B10-3322-42CA-9481-F9F803E57FA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751D215-41B3-4D25-894F-E289F507435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E99D961-1898-4FD3-865A-62AF19A06E4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C275804-B2BB-4EBD-B71D-2DE2F96C207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DBCD20D-5736-44B1-A77A-B94AEAD9EE8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C57333A-B129-48B9-975D-D6FE81B6754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37580A3-4025-40D0-814F-93D435CA4149}"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2DF7C4C-A073-4875-84A7-5BABE116F8D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2CDFA30-1635-4588-A9A4-BBA80A0E1F5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C9B37A72-E53C-49D1-925A-DB934986C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654320B-5BFB-4253-949F-CA8B359C486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5E6649C-DC2E-442A-A2DE-82620EB91B5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A984698-A735-4685-8D20-FE106DA469C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6BDF1D1-F9B7-4A53-8283-0AAC9FA2BDC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6B15949-8B00-4734-A6F3-9C01D3EA49E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9607147-63C7-457C-B55D-0C4CF9E854B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31B6041-2F5D-4747-95C9-B8870F4F8AC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502C698-1A7D-4C86-A4ED-6FC997206FC5}"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51B3513-D4E3-4325-BFF8-5B20D44352C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9F9A5F0-A39B-4C82-AC14-9DC81A4C5FD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BC17A83-F27E-44BF-A1E6-7D1462214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41AE22C-A241-44A8-B67E-92E0B5C73B2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9C5C43E-4405-4AE2-A201-75432E80075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0DE6269-7A32-4DA9-A192-AAC72CB7AA7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674BA47-C248-4B39-AD37-A9ABC3094DC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F28376F-0F79-4A7E-AECA-8B5332A82AA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2A050CC-48AB-408C-8BB4-D1B65DCEF87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77B3620-3AEC-4F75-BF98-5EDFADE1C9F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B924809-00D2-4684-A811-E2947D04867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A64B3E9-2117-4964-A656-05E2A7C4AB9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8319CC4-69B2-485A-AE09-D0AD451A08FF}"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B082-890F-4F7B-A596-9B0C4201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2BE92E3B-BCEA-4ED5-8837-CDDD13A05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190C1549-F140-4735-AFFE-EA6E2DFCF06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026E5B3F-583A-41B9-86D8-0BD2DB1B76BF}" type="slidenum">
              <a:t>&lt;#&gt;</a:t>
            </a:fld>
          </a:p>
        </p:txBody>
      </p:sp>
      <p:sp>
        <p:nvSpPr>
          <p:cNvPr id="3" name="PlaceHolder 2"/>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9F6C7C21-30D5-406A-9875-2CD54827A403}"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7DA311E9-FD15-4B63-945D-4FF88D6B274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ECDD4B44-9AC0-4784-8CD3-E2011D93ACDA}"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5"/>
          </p:nvPr>
        </p:nvSpPr>
        <p:spPr/>
        <p:txBody>
          <a:bodyPr/>
          <a:p>
            <a:fld id="{6DF42673-2E5A-4013-A7DC-DC13D30689AB}"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5"/>
          </p:nvPr>
        </p:nvSpPr>
        <p:spPr/>
        <p:txBody>
          <a:bodyPr/>
          <a:p>
            <a:fld id="{781A12B7-C653-4D21-9FB4-AA5A5A7A7324}"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C5DE33AC-0BC3-4D1C-92FE-3534A9D009E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ED79D4AE-1B5B-4508-8B0C-4632B85DC21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A02E46C1-24A2-45E6-9DD4-45251D74F82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C6BBBB87-A65C-4B47-B9B9-EF00162E3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B3140BBD-C7DF-4259-A7A9-A4AA36A44B6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5"/>
          </p:nvPr>
        </p:nvSpPr>
        <p:spPr/>
        <p:txBody>
          <a:bodyPr/>
          <a:p>
            <a:fld id="{6193C159-243A-41C4-B2D9-AB34F021FE3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5"/>
          </p:nvPr>
        </p:nvSpPr>
        <p:spPr/>
        <p:txBody>
          <a:bodyPr/>
          <a:p>
            <a:fld id="{8C2DC079-DE90-4AF6-AA9F-B7423D275262}" type="slidenum">
              <a:t>&lt;#&gt;</a:t>
            </a:fld>
          </a:p>
        </p:txBody>
      </p:sp>
      <p:sp>
        <p:nvSpPr>
          <p:cNvPr id="10" name="PlaceHolder 9"/>
          <p:cNvSpPr>
            <a:spLocks noGrp="1"/>
          </p:cNvSpPr>
          <p:nvPr>
            <p:ph type="dt" idx="7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97A039CC-A534-4EDC-8E08-F54EF981E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4EE0C69A-F7D5-4E25-A3F3-3FDF48DE2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E2F7A355-8EC7-463A-A449-F73E1E279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6365609B-9C06-499D-ADB7-1DC452654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C06672A3-A19D-4D99-9A7B-FAF71D800F8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31166AD-0258-4CBA-8CF3-81BFF6DA69E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A5275ECF-271C-4076-AC6C-E90FCE0567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7E5BECBC-47E4-4ECB-8E65-F4D6B16DD3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3C4D-9A99-4BFB-8DAB-5D3F424E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9FD30D3F-EF85-4D7E-B886-B108AFD949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AFEA757-F3C4-442A-B351-01F72D2607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2321791E-1167-4506-A08B-32EE1EE53A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63205D6B-BC2A-4473-B048-946334FF63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7A55787F-D14D-4E3A-8573-69A61CAA67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DA02F800-1CCB-4D19-B2B1-7FFEE744EF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6BEF31C6-8ECE-4B28-8987-4CEA837126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EDF32E5C-0023-4101-8D68-2B5A0AA607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83BCA1EB-3116-456C-AA33-EBBE9459A77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6376335-7370-46C8-8A3D-4C556D6944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352A-5462-471D-8FA5-6A956FDD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1C4393-44B9-49C8-A36E-7BA93F78597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016A9A-816C-4F17-80E0-BDBF0EE150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652B8D-C1D4-44B1-AAB7-F9D3476E17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A57CDB-8510-4906-8699-71DF1C3D4A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E3BCFCD-8D6C-4699-AC43-91003205AD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C5D6CB-E440-40C5-8FCA-9BA1BDD479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50B35E-629C-4C95-994B-01868E0CAE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5AB3D1-86C9-425A-94AA-66B0C244F5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2DB9AC-A472-427E-804F-A20F3C9FDD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D5C6D99-757C-4A33-B236-843440D95D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B9BCB-C05F-485E-AC80-44A3BD490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EC19CD9-8179-41BD-BE39-DEF48DC7282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5425973-64B5-4ACC-BE49-9276A6C6F21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134E09-78D6-4144-A5EC-4F629FBDF1A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0FAA01-B5BE-4E83-BB43-78AD894AA7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870DC6D-3AD5-43F0-A865-BF387B82C1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275808-D475-4ABE-8E3C-B0D89E8C80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B505F4-4F26-4767-B0A9-DA411BA2C43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4FAB54-E053-42C4-870C-B1E7ADB8D2A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9D7347-C37A-419D-8E55-42655EAAAD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EC4307-6E28-435F-99C7-893ADAE7B04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16E7-F834-4CCD-8784-4128CD7C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AF049C-173A-4ED0-ABB6-0590C4DC77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D413017-A333-4ADD-B688-5129859A3E0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640D385-0A18-4042-98C1-66C03540EFC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BF44D9A-5A5E-4671-9BBF-4B5D6EE954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2855442-E069-4DF6-A3C5-180F3CC8E4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656568-DE21-443A-913A-1DEC5D91FC7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A0BF46-DEE7-4BE3-A99E-BB927D971CD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2DD6A20-10E8-404E-9302-D074101CE7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E7CBA1-4443-4B21-8B79-CD8C8A2F37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EACC46-BF68-48E0-8418-478D289EE9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25EA-676F-46CE-9C67-77D3D56F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E46D7E-D805-4042-B6A5-42B0E85F42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00F34F-455C-4B37-89F7-2AE9F87338A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2043C9-5DDB-4045-AB11-16ED75E451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9B35DD-C87D-4306-AC89-83659C6A5CA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89DA3E7-25FC-47C3-9138-71E48991B5B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0609121-071E-42E9-A832-305097DACB1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6D10B7-41D2-4778-9427-66A05A0414D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B532F7-C192-4284-8FCE-E76F49BA889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DAB6523-D2FB-4F0C-AE58-F2D9567ECB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AB5C2F-2534-4C22-8FCD-D9E85B932D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EC4F-86E1-406B-924E-30778D09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F1A5B5C-A5F8-4EC1-A1C0-690DBD7A22D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8008006-5243-4037-9114-F28B6CE807B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2AF141-4F8B-4ED7-8D88-8A72B2F9E19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783B5A-5F8C-4733-8834-4550B8E303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12F24A-A149-4B9D-A6C7-6904FE2484D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6CAAA5F-2489-48D2-8939-00DCF920CFC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7D383E1-79AC-479A-AC54-A0B5296C4B5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F83F856-53E9-40E3-8ECA-93C0B88FF12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82EFEE6-6A5F-491B-82B3-00FAE1AAED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7AC2310-A8BF-47C7-9F98-1459A3745EF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46E2-EFE3-4B25-BF36-2766043747F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2"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3"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4"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36A3-BBCA-47B6-B7D0-A31EE6E610E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3"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4"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5"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C2B9-BE4F-4ABB-94BC-82DB9CEAE2F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4"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5"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6"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4255-ACAE-4ED8-A034-9F30507A210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9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5"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6"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7"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8EBE-1DAB-4B49-858C-0EE18D96C6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Picture 8" descr=""/>
          <p:cNvPicPr/>
          <p:nvPr/>
        </p:nvPicPr>
        <p:blipFill>
          <a:blip r:embed="rId2"/>
          <a:stretch/>
        </p:blipFill>
        <p:spPr>
          <a:xfrm>
            <a:off x="7224840" y="0"/>
            <a:ext cx="1919160" cy="1440000"/>
          </a:xfrm>
          <a:prstGeom prst="rect">
            <a:avLst/>
          </a:prstGeom>
          <a:ln w="0">
            <a:noFill/>
          </a:ln>
        </p:spPr>
      </p:pic>
      <p:pic>
        <p:nvPicPr>
          <p:cNvPr id="535" name="Picture 7" descr=""/>
          <p:cNvPicPr/>
          <p:nvPr/>
        </p:nvPicPr>
        <p:blipFill>
          <a:blip r:embed="rId3"/>
          <a:stretch/>
        </p:blipFill>
        <p:spPr>
          <a:xfrm>
            <a:off x="0" y="0"/>
            <a:ext cx="9144000" cy="6858000"/>
          </a:xfrm>
          <a:prstGeom prst="rect">
            <a:avLst/>
          </a:prstGeom>
          <a:ln w="0">
            <a:noFill/>
          </a:ln>
        </p:spPr>
      </p:pic>
      <p:sp>
        <p:nvSpPr>
          <p:cNvPr id="5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37"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0FEC-9914-4E55-B2E5-1F91617E52D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8" descr=""/>
          <p:cNvPicPr/>
          <p:nvPr/>
        </p:nvPicPr>
        <p:blipFill>
          <a:blip r:embed="rId2"/>
          <a:stretch/>
        </p:blipFill>
        <p:spPr>
          <a:xfrm>
            <a:off x="7224840" y="0"/>
            <a:ext cx="1919160" cy="1440000"/>
          </a:xfrm>
          <a:prstGeom prst="rect">
            <a:avLst/>
          </a:prstGeom>
          <a:ln w="0">
            <a:noFill/>
          </a:ln>
        </p:spPr>
      </p:pic>
      <p:sp>
        <p:nvSpPr>
          <p:cNvPr id="5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79"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74FA-A331-4309-BC41-E4970F446B8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8" descr=""/>
          <p:cNvPicPr/>
          <p:nvPr/>
        </p:nvPicPr>
        <p:blipFill>
          <a:blip r:embed="rId2"/>
          <a:stretch/>
        </p:blipFill>
        <p:spPr>
          <a:xfrm>
            <a:off x="7224840" y="0"/>
            <a:ext cx="1919160" cy="1440000"/>
          </a:xfrm>
          <a:prstGeom prst="rect">
            <a:avLst/>
          </a:prstGeom>
          <a:ln w="0">
            <a:noFill/>
          </a:ln>
        </p:spPr>
      </p:pic>
      <p:pic>
        <p:nvPicPr>
          <p:cNvPr id="620" name="Picture 7" descr="thesea"/>
          <p:cNvPicPr/>
          <p:nvPr/>
        </p:nvPicPr>
        <p:blipFill>
          <a:blip r:embed="rId3"/>
          <a:stretch/>
        </p:blipFill>
        <p:spPr>
          <a:xfrm>
            <a:off x="0" y="0"/>
            <a:ext cx="9144000" cy="6858000"/>
          </a:xfrm>
          <a:prstGeom prst="rect">
            <a:avLst/>
          </a:prstGeom>
          <a:ln w="0">
            <a:noFill/>
          </a:ln>
        </p:spPr>
      </p:pic>
      <p:sp>
        <p:nvSpPr>
          <p:cNvPr id="6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2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3"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24"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5"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1BE3-C055-42B0-A037-7900101DC9B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8" descr=""/>
          <p:cNvPicPr/>
          <p:nvPr/>
        </p:nvPicPr>
        <p:blipFill>
          <a:blip r:embed="rId2"/>
          <a:stretch/>
        </p:blipFill>
        <p:spPr>
          <a:xfrm>
            <a:off x="7224840" y="0"/>
            <a:ext cx="1919160" cy="1440000"/>
          </a:xfrm>
          <a:prstGeom prst="rect">
            <a:avLst/>
          </a:prstGeom>
          <a:ln w="0">
            <a:noFill/>
          </a:ln>
        </p:spPr>
      </p:pic>
      <p:sp>
        <p:nvSpPr>
          <p:cNvPr id="6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6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6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6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3CA9-FF81-4104-AE15-7F90CD3A0AF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8" descr=""/>
          <p:cNvPicPr/>
          <p:nvPr/>
        </p:nvPicPr>
        <p:blipFill>
          <a:blip r:embed="rId2"/>
          <a:stretch/>
        </p:blipFill>
        <p:spPr>
          <a:xfrm>
            <a:off x="7224840" y="0"/>
            <a:ext cx="1919160" cy="1440000"/>
          </a:xfrm>
          <a:prstGeom prst="rect">
            <a:avLst/>
          </a:prstGeom>
          <a:ln w="0">
            <a:noFill/>
          </a:ln>
        </p:spPr>
      </p:pic>
      <p:sp>
        <p:nvSpPr>
          <p:cNvPr id="7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0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07"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8"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09"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B068-2605-4E01-A0C6-054A9A2E410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8" descr=""/>
          <p:cNvPicPr/>
          <p:nvPr/>
        </p:nvPicPr>
        <p:blipFill>
          <a:blip r:embed="rId2"/>
          <a:stretch/>
        </p:blipFill>
        <p:spPr>
          <a:xfrm>
            <a:off x="7224840" y="0"/>
            <a:ext cx="1919160" cy="1440000"/>
          </a:xfrm>
          <a:prstGeom prst="rect">
            <a:avLst/>
          </a:prstGeom>
          <a:ln w="0">
            <a:noFill/>
          </a:ln>
        </p:spPr>
      </p:pic>
      <p:sp>
        <p:nvSpPr>
          <p:cNvPr id="7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4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49"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0"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51"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109C-6EC7-4749-B05E-5EF1C1A6EE8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B6BE-0161-4069-BA81-2A650D80614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8" descr=""/>
          <p:cNvPicPr/>
          <p:nvPr/>
        </p:nvPicPr>
        <p:blipFill>
          <a:blip r:embed="rId2"/>
          <a:stretch/>
        </p:blipFill>
        <p:spPr>
          <a:xfrm>
            <a:off x="7224840" y="0"/>
            <a:ext cx="1919160" cy="14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Picture 8" descr=""/>
          <p:cNvPicPr/>
          <p:nvPr/>
        </p:nvPicPr>
        <p:blipFill>
          <a:blip r:embed="rId2"/>
          <a:stretch/>
        </p:blipFill>
        <p:spPr>
          <a:xfrm>
            <a:off x="7224840" y="0"/>
            <a:ext cx="1919160" cy="1440000"/>
          </a:xfrm>
          <a:prstGeom prst="rect">
            <a:avLst/>
          </a:prstGeom>
          <a:ln w="0">
            <a:noFill/>
          </a:ln>
        </p:spPr>
      </p:pic>
      <p:sp>
        <p:nvSpPr>
          <p:cNvPr id="7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9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1"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2"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93"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FD04-4202-456E-B897-DD05C10ADCF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8" descr=""/>
          <p:cNvPicPr/>
          <p:nvPr/>
        </p:nvPicPr>
        <p:blipFill>
          <a:blip r:embed="rId2"/>
          <a:stretch/>
        </p:blipFill>
        <p:spPr>
          <a:xfrm>
            <a:off x="7224840" y="0"/>
            <a:ext cx="1919160" cy="1440000"/>
          </a:xfrm>
          <a:prstGeom prst="rect">
            <a:avLst/>
          </a:prstGeom>
          <a:ln w="0">
            <a:noFill/>
          </a:ln>
        </p:spPr>
      </p:pic>
      <p:sp>
        <p:nvSpPr>
          <p:cNvPr id="8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3"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4"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35"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DFF6-3C80-406F-B38B-1F232E1389B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8" descr=""/>
          <p:cNvPicPr/>
          <p:nvPr/>
        </p:nvPicPr>
        <p:blipFill>
          <a:blip r:embed="rId2"/>
          <a:stretch/>
        </p:blipFill>
        <p:spPr>
          <a:xfrm>
            <a:off x="7224840" y="0"/>
            <a:ext cx="1919160" cy="1440000"/>
          </a:xfrm>
          <a:prstGeom prst="rect">
            <a:avLst/>
          </a:prstGeom>
          <a:ln w="0">
            <a:noFill/>
          </a:ln>
        </p:spPr>
      </p:pic>
      <p:sp>
        <p:nvSpPr>
          <p:cNvPr id="8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5"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6"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7"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F5BE-AB7D-4819-B8DD-5C611469049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Picture 8" descr=""/>
          <p:cNvPicPr/>
          <p:nvPr/>
        </p:nvPicPr>
        <p:blipFill>
          <a:blip r:embed="rId2"/>
          <a:stretch/>
        </p:blipFill>
        <p:spPr>
          <a:xfrm>
            <a:off x="7224840" y="0"/>
            <a:ext cx="1919160" cy="1440000"/>
          </a:xfrm>
          <a:prstGeom prst="rect">
            <a:avLst/>
          </a:prstGeom>
          <a:ln w="0">
            <a:noFill/>
          </a:ln>
        </p:spPr>
      </p:pic>
      <p:sp>
        <p:nvSpPr>
          <p:cNvPr id="9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1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7"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8"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9"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B042-0D5D-4477-A91D-ED75652A77C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Picture 8" descr=""/>
          <p:cNvPicPr/>
          <p:nvPr/>
        </p:nvPicPr>
        <p:blipFill>
          <a:blip r:embed="rId2"/>
          <a:stretch/>
        </p:blipFill>
        <p:spPr>
          <a:xfrm>
            <a:off x="7224840" y="0"/>
            <a:ext cx="1919160" cy="1440000"/>
          </a:xfrm>
          <a:prstGeom prst="rect">
            <a:avLst/>
          </a:prstGeom>
          <a:ln w="0">
            <a:noFill/>
          </a:ln>
        </p:spPr>
      </p:pic>
      <p:sp>
        <p:nvSpPr>
          <p:cNvPr id="9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9"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0"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1"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06E8-0A28-4AE6-891A-7FB9E0497B89}"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Picture 8" descr=""/>
          <p:cNvPicPr/>
          <p:nvPr/>
        </p:nvPicPr>
        <p:blipFill>
          <a:blip r:embed="rId2"/>
          <a:stretch/>
        </p:blipFill>
        <p:spPr>
          <a:xfrm>
            <a:off x="7224840" y="0"/>
            <a:ext cx="1919160" cy="1440000"/>
          </a:xfrm>
          <a:prstGeom prst="rect">
            <a:avLst/>
          </a:prstGeom>
          <a:ln w="0">
            <a:noFill/>
          </a:ln>
        </p:spPr>
      </p:pic>
      <p:sp>
        <p:nvSpPr>
          <p:cNvPr id="9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0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1"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2"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03"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1274-D56F-4D19-87AC-9E6A43B4A5C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Picture 8" descr=""/>
          <p:cNvPicPr/>
          <p:nvPr/>
        </p:nvPicPr>
        <p:blipFill>
          <a:blip r:embed="rId2"/>
          <a:stretch/>
        </p:blipFill>
        <p:spPr>
          <a:xfrm>
            <a:off x="7224840" y="0"/>
            <a:ext cx="1919160" cy="1440000"/>
          </a:xfrm>
          <a:prstGeom prst="rect">
            <a:avLst/>
          </a:prstGeom>
          <a:ln w="0">
            <a:noFill/>
          </a:ln>
        </p:spPr>
      </p:pic>
      <p:pic>
        <p:nvPicPr>
          <p:cNvPr id="1041" name="Picture 6" descr="erasmus_mundus_ppt_inner_pages.jpg"/>
          <p:cNvPicPr/>
          <p:nvPr/>
        </p:nvPicPr>
        <p:blipFill>
          <a:blip r:embed="rId3"/>
          <a:stretch/>
        </p:blipFill>
        <p:spPr>
          <a:xfrm>
            <a:off x="-144360" y="0"/>
            <a:ext cx="9396360" cy="6858000"/>
          </a:xfrm>
          <a:prstGeom prst="rect">
            <a:avLst/>
          </a:prstGeom>
          <a:ln w="0">
            <a:noFill/>
          </a:ln>
        </p:spPr>
      </p:pic>
      <p:sp>
        <p:nvSpPr>
          <p:cNvPr id="10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43"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44"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45" name="PlaceHolder 4"/>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4B98-30A0-4A97-90AB-E6885128395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erasmus_mundus_ppt_cover.jpg"/>
          <p:cNvPicPr/>
          <p:nvPr/>
        </p:nvPicPr>
        <p:blipFill>
          <a:blip r:embed="rId2"/>
          <a:stretch/>
        </p:blipFill>
        <p:spPr>
          <a:xfrm>
            <a:off x="-108000" y="0"/>
            <a:ext cx="9433080" cy="6858000"/>
          </a:xfrm>
          <a:prstGeom prst="rect">
            <a:avLst/>
          </a:prstGeom>
          <a:ln w="0">
            <a:noFill/>
          </a:ln>
        </p:spPr>
      </p:pic>
      <p:sp>
        <p:nvSpPr>
          <p:cNvPr id="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F578-4A8F-49D8-99FD-0F6B0237A005}"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erasmus_mundus_ppt_inner_pages.jpg"/>
          <p:cNvPicPr/>
          <p:nvPr/>
        </p:nvPicPr>
        <p:blipFill>
          <a:blip r:embed="rId2"/>
          <a:stretch/>
        </p:blipFill>
        <p:spPr>
          <a:xfrm>
            <a:off x="-144360" y="0"/>
            <a:ext cx="9396360" cy="6858000"/>
          </a:xfrm>
          <a:prstGeom prst="rect">
            <a:avLst/>
          </a:prstGeom>
          <a:ln w="0">
            <a:noFill/>
          </a:ln>
        </p:spPr>
      </p:pic>
      <p:sp>
        <p:nvSpPr>
          <p:cNvPr id="1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8"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5004-46AD-4BD7-8F85-3D15248C18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6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67"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8"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6DC6-83BA-4B96-8B5F-DC620ECFD03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0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08"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9"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0"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1D8F-4025-48CE-97A7-718E89ACB55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4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04F0-20BF-40AE-B6D2-6F0B6FE05C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EEB7-9837-46E6-B32D-909F6896E95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1"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2"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3"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8FF7-B453-4EB7-845B-C4B4A2DB69A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258560" y="1125000"/>
            <a:ext cx="6553080" cy="208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a:solidFill>
                  <a:srgbClr val="ffd624"/>
                </a:solidFill>
                <a:latin typeface="Verdana"/>
              </a:rPr>
              <a:t>Erasmus Mundus</a:t>
            </a:r>
            <a:endParaRPr b="1" lang="en-US" sz="4800" spc="-1" strike="noStrike">
              <a:solidFill>
                <a:srgbClr val="0f5494"/>
              </a:solidFill>
              <a:latin typeface="Verdana"/>
            </a:endParaRPr>
          </a:p>
        </p:txBody>
      </p:sp>
      <p:sp>
        <p:nvSpPr>
          <p:cNvPr id="1090" name=""/>
          <p:cNvSpPr txBox="1"/>
          <p:nvPr/>
        </p:nvSpPr>
        <p:spPr>
          <a:xfrm>
            <a:off x="0" y="2924280"/>
            <a:ext cx="9144000" cy="2449440"/>
          </a:xfrm>
          <a:prstGeom prst="rect">
            <a:avLst/>
          </a:prstGeom>
          <a:noFill/>
          <a:ln w="0">
            <a:noFill/>
          </a:ln>
        </p:spPr>
        <p:txBody>
          <a:bodyPr anchor="t">
            <a:normAutofit fontScale="92000"/>
          </a:bodyPr>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vento conjunto ALFA y EM-Acción 2</a:t>
            </a:r>
            <a:endParaRPr b="0" i="1" lang="en-US" sz="3000" spc="-1" strike="noStrike">
              <a:solidFill>
                <a:srgbClr val="0f5494"/>
              </a:solidFill>
              <a:latin typeface="Verdana"/>
            </a:endParaRPr>
          </a:p>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000" spc="-1" strike="noStrike">
                <a:solidFill>
                  <a:srgbClr val="ffffff"/>
                </a:solidFill>
                <a:latin typeface="Verdana"/>
              </a:rPr>
              <a:t>Mirando hacia el futuro</a:t>
            </a:r>
            <a:endParaRPr b="0" i="1" lang="en-US" sz="30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Impacto y Resultados de EM-Acción 2 (AL)</a:t>
            </a:r>
            <a:endParaRPr b="0" i="1" lang="en-US" sz="18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26 de Junio 2014, Lima </a:t>
            </a:r>
            <a:endParaRPr b="0" i="1" lang="en-US" sz="18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endParaRPr b="0" i="1" lang="en-US" sz="2400" spc="-1" strike="noStrike">
              <a:solidFill>
                <a:srgbClr val="0f5494"/>
              </a:solidFill>
              <a:latin typeface="Verdana"/>
            </a:endParaRPr>
          </a:p>
        </p:txBody>
      </p:sp>
      <p:sp>
        <p:nvSpPr>
          <p:cNvPr id="1091" name="Rectangle 3"/>
          <p:cNvSpPr/>
          <p:nvPr/>
        </p:nvSpPr>
        <p:spPr>
          <a:xfrm>
            <a:off x="5830920" y="5950080"/>
            <a:ext cx="33130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ffff"/>
                </a:solidFill>
                <a:latin typeface="Verdana"/>
                <a:ea typeface="Arial"/>
              </a:rPr>
              <a:t>M</a:t>
            </a:r>
            <a:r>
              <a:rPr b="1" i="1" lang="el-GR" sz="1400" spc="-1" strike="noStrike">
                <a:solidFill>
                  <a:srgbClr val="ffffff"/>
                </a:solidFill>
                <a:latin typeface="Verdana"/>
                <a:ea typeface="Arial"/>
              </a:rPr>
              <a:t>ό</a:t>
            </a:r>
            <a:r>
              <a:rPr b="1" i="1" lang="fr-BE" sz="1400" spc="-1" strike="noStrike">
                <a:solidFill>
                  <a:srgbClr val="ffffff"/>
                </a:solidFill>
                <a:latin typeface="Verdana"/>
                <a:ea typeface="Arial"/>
              </a:rPr>
              <a:t>nika Holik</a:t>
            </a:r>
            <a:r>
              <a:rPr b="1" i="1" lang="fr-BE" sz="1200" spc="-1" strike="noStrike">
                <a:solidFill>
                  <a:srgbClr val="ffffff"/>
                </a:solidFill>
                <a:latin typeface="Verdana"/>
                <a:ea typeface="Arial"/>
              </a:rPr>
              <a:t>, EACEA</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Unidad A3 – Erasmu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Educación Superior – Programas conjuntos de Maestrías</a:t>
            </a: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7" name="Chart 4"/>
          <p:cNvGraphicFramePr/>
          <p:nvPr/>
        </p:nvGraphicFramePr>
        <p:xfrm>
          <a:off x="1895400" y="1890720"/>
          <a:ext cx="6858000" cy="5067360"/>
        </p:xfrm>
        <a:graphic>
          <a:graphicData uri="http://schemas.openxmlformats.org/presentationml/2006/ole">
            <p:oleObj progId="Excel.Sheet.12" r:id="rId1" spid="">
              <p:embed/>
              <p:pic>
                <p:nvPicPr>
                  <p:cNvPr id="1148" name="Chart 4" descr=""/>
                  <p:cNvPicPr/>
                  <p:nvPr/>
                </p:nvPicPr>
                <p:blipFill>
                  <a:blip r:embed="rId2"/>
                  <a:stretch/>
                </p:blipFill>
                <p:spPr>
                  <a:xfrm>
                    <a:off x="1895400" y="1890720"/>
                    <a:ext cx="6858000" cy="5067360"/>
                  </a:xfrm>
                  <a:prstGeom prst="rect">
                    <a:avLst/>
                  </a:prstGeom>
                  <a:ln w="0">
                    <a:noFill/>
                  </a:ln>
                </p:spPr>
              </p:pic>
            </p:oleObj>
          </a:graphicData>
        </a:graphic>
      </p:graphicFrame>
      <p:sp>
        <p:nvSpPr>
          <p:cNvPr id="1149" name="TextBox 5"/>
          <p:cNvSpPr/>
          <p:nvPr/>
        </p:nvSpPr>
        <p:spPr>
          <a:xfrm>
            <a:off x="0" y="2421000"/>
            <a:ext cx="1944720" cy="4055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456</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96</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de América Latina</a:t>
            </a:r>
            <a:endParaRPr b="1" lang="en-US" sz="14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f5494"/>
                </a:solidFill>
                <a:latin typeface="Verdana"/>
                <a:ea typeface="Arial"/>
              </a:rPr>
              <a:t>111 </a:t>
            </a:r>
            <a:r>
              <a:rPr b="0" i="1" lang="en-GB" sz="1100" spc="-1" strike="noStrike">
                <a:solidFill>
                  <a:srgbClr val="0f5494"/>
                </a:solidFill>
                <a:latin typeface="Verdana"/>
                <a:ea typeface="Arial"/>
              </a:rPr>
              <a:t>participaciones de </a:t>
            </a:r>
            <a:r>
              <a:rPr b="1" i="1" lang="en-GB" sz="1100" spc="-1" strike="noStrike">
                <a:solidFill>
                  <a:srgbClr val="0f5494"/>
                </a:solidFill>
                <a:latin typeface="Verdana"/>
                <a:ea typeface="Arial"/>
              </a:rPr>
              <a:t>55 </a:t>
            </a:r>
            <a:r>
              <a:rPr b="0" i="1" lang="en-GB" sz="1100" spc="-1" strike="noStrike">
                <a:solidFill>
                  <a:srgbClr val="0f5494"/>
                </a:solidFill>
                <a:latin typeface="Verdana"/>
                <a:ea typeface="Arial"/>
              </a:rPr>
              <a:t>universidades de América Latina provenientes de países del </a:t>
            </a:r>
            <a:r>
              <a:rPr b="1" i="1" lang="en-GB" sz="1100" spc="-1" strike="noStrike">
                <a:solidFill>
                  <a:srgbClr val="0f5494"/>
                </a:solidFill>
                <a:latin typeface="Verdana"/>
                <a:ea typeface="Arial"/>
              </a:rPr>
              <a:t>Grupo A </a:t>
            </a:r>
            <a:endParaRPr b="1" lang="en-US" sz="11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361</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37</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Europeas</a:t>
            </a:r>
            <a:endParaRPr b="1" lang="en-US" sz="14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Impacto</a:t>
            </a:r>
            <a:endParaRPr b="1" lang="en-US" sz="3200" spc="-1" strike="noStrike">
              <a:solidFill>
                <a:srgbClr val="0f5494"/>
              </a:solidFill>
              <a:latin typeface="Verdana"/>
            </a:endParaRPr>
          </a:p>
        </p:txBody>
      </p:sp>
      <p:sp>
        <p:nvSpPr>
          <p:cNvPr id="1151" name=""/>
          <p:cNvSpPr txBox="1"/>
          <p:nvPr/>
        </p:nvSpPr>
        <p:spPr>
          <a:xfrm>
            <a:off x="457200" y="2060640"/>
            <a:ext cx="8229600" cy="4138560"/>
          </a:xfrm>
          <a:prstGeom prst="rect">
            <a:avLst/>
          </a:prstGeom>
          <a:noFill/>
          <a:ln w="0">
            <a:noFill/>
          </a:ln>
        </p:spPr>
        <p:txBody>
          <a:bodyPr anchor="t">
            <a:normAutofit/>
          </a:bodyPr>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Regional: estrechando las relaciones en dos dimensiones: AL/UE y AL/AL</a:t>
            </a:r>
            <a:r>
              <a:rPr b="1" lang="fr-BE" sz="1800" spc="-1" strike="noStrike">
                <a:solidFill>
                  <a:srgbClr val="0f5494"/>
                </a:solidFill>
                <a:latin typeface="Verdana"/>
              </a:rPr>
              <a:t>	</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aís: contribuyendo en la cohesión social: participaión de estudiantes en desventaja ecónomica y social; participación del grupo objetivo 3</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stitucional: establecimiento de acuerdos bilaterales, áreas de investigación conjuntas; programas conjuntos; visibilidad internacional</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dividual: personal y profesional</a:t>
            </a:r>
            <a:endParaRPr b="1" lang="en-US" sz="18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Resultados apreciados </a:t>
            </a:r>
            <a:endParaRPr b="1" lang="en-US" sz="3200" spc="-1" strike="noStrike">
              <a:solidFill>
                <a:srgbClr val="0f5494"/>
              </a:solidFill>
              <a:latin typeface="Verdana"/>
            </a:endParaRPr>
          </a:p>
        </p:txBody>
      </p:sp>
      <p:sp>
        <p:nvSpPr>
          <p:cNvPr id="115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Proyectos en concordancia  con la estrategia de cooperación UE/AL</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Número de movilidades previsto alcanzado </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Alto participación de universidade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Colaboraciones consolidadas entre universidades de ambos lad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La internacionalización de las universidades de las regiones menos favorecidas</a:t>
            </a:r>
            <a:endParaRPr b="0" i="1" lang="en-US" sz="16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Entusiasmo y enriquecimiento cultural para los becari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4" name="Picture 2" descr=""/>
          <p:cNvPicPr/>
          <p:nvPr/>
        </p:nvPicPr>
        <p:blipFill>
          <a:blip r:embed="rId1"/>
          <a:stretch/>
        </p:blipFill>
        <p:spPr>
          <a:xfrm>
            <a:off x="7164360" y="5805360"/>
            <a:ext cx="1725480" cy="470160"/>
          </a:xfrm>
          <a:prstGeom prst="rect">
            <a:avLst/>
          </a:prstGeom>
          <a:ln w="0">
            <a:noFill/>
          </a:ln>
        </p:spPr>
      </p:pic>
      <p:graphicFrame>
        <p:nvGraphicFramePr>
          <p:cNvPr id="1155" name="Chart 3"/>
          <p:cNvGraphicFramePr/>
          <p:nvPr/>
        </p:nvGraphicFramePr>
        <p:xfrm>
          <a:off x="1619280" y="1228680"/>
          <a:ext cx="7458120" cy="5419800"/>
        </p:xfrm>
        <a:graphic>
          <a:graphicData uri="http://schemas.openxmlformats.org/presentationml/2006/ole">
            <p:oleObj progId="Excel.Sheet.12" r:id="rId2" spid="">
              <p:embed/>
              <p:pic>
                <p:nvPicPr>
                  <p:cNvPr id="1156" name="Chart 3" descr=""/>
                  <p:cNvPicPr/>
                  <p:nvPr/>
                </p:nvPicPr>
                <p:blipFill>
                  <a:blip r:embed="rId3"/>
                  <a:stretch/>
                </p:blipFill>
                <p:spPr>
                  <a:xfrm>
                    <a:off x="1619280" y="1228680"/>
                    <a:ext cx="7458120" cy="5419800"/>
                  </a:xfrm>
                  <a:prstGeom prst="rect">
                    <a:avLst/>
                  </a:prstGeom>
                  <a:ln w="0">
                    <a:noFill/>
                  </a:ln>
                </p:spPr>
              </p:pic>
            </p:oleObj>
          </a:graphicData>
        </a:graphic>
      </p:graphicFrame>
      <p:sp>
        <p:nvSpPr>
          <p:cNvPr id="1157" name="TextBox 1"/>
          <p:cNvSpPr/>
          <p:nvPr/>
        </p:nvSpPr>
        <p:spPr>
          <a:xfrm>
            <a:off x="1440" y="2205000"/>
            <a:ext cx="1690920" cy="227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EU movilidad hacia AL: </a:t>
            </a:r>
            <a:r>
              <a:rPr b="1" lang="en-GB" sz="1300" spc="-1" strike="noStrike">
                <a:solidFill>
                  <a:srgbClr val="0f5494"/>
                </a:solidFill>
                <a:latin typeface="Verdana"/>
              </a:rPr>
              <a:t>1036</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AL movilidad hacia UE: </a:t>
            </a:r>
            <a:r>
              <a:rPr b="1" lang="en-GB" sz="1300" spc="-1" strike="noStrike">
                <a:solidFill>
                  <a:srgbClr val="0f5494"/>
                </a:solidFill>
                <a:latin typeface="Verdana"/>
              </a:rPr>
              <a:t>5687</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Movilidades en curso: </a:t>
            </a:r>
            <a:r>
              <a:rPr b="1" lang="en-GB" sz="1300" spc="-1" strike="noStrike">
                <a:solidFill>
                  <a:srgbClr val="0f5494"/>
                </a:solidFill>
                <a:latin typeface="Verdana"/>
              </a:rPr>
              <a:t>333</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158" name="Chart 4"/>
          <p:cNvGraphicFramePr/>
          <p:nvPr/>
        </p:nvGraphicFramePr>
        <p:xfrm>
          <a:off x="920880" y="1290600"/>
          <a:ext cx="7518240" cy="5213520"/>
        </p:xfrm>
        <a:graphic>
          <a:graphicData uri="http://schemas.openxmlformats.org/presentationml/2006/ole">
            <p:oleObj progId="Excel.Sheet.12" r:id="rId1" spid="">
              <p:embed/>
              <p:pic>
                <p:nvPicPr>
                  <p:cNvPr id="1159" name="Chart 4" descr=""/>
                  <p:cNvPicPr/>
                  <p:nvPr/>
                </p:nvPicPr>
                <p:blipFill>
                  <a:blip r:embed="rId2"/>
                  <a:stretch/>
                </p:blipFill>
                <p:spPr>
                  <a:xfrm>
                    <a:off x="920880" y="1290600"/>
                    <a:ext cx="7518240" cy="52135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60" name="Chart 6" descr=""/>
          <p:cNvPicPr/>
          <p:nvPr/>
        </p:nvPicPr>
        <p:blipFill>
          <a:blip r:embed="rId1"/>
          <a:stretch/>
        </p:blipFill>
        <p:spPr>
          <a:xfrm>
            <a:off x="324000" y="2346480"/>
            <a:ext cx="4827600" cy="3962160"/>
          </a:xfrm>
          <a:prstGeom prst="rect">
            <a:avLst/>
          </a:prstGeom>
          <a:ln w="0">
            <a:noFill/>
          </a:ln>
        </p:spPr>
      </p:pic>
      <p:pic>
        <p:nvPicPr>
          <p:cNvPr id="1161" name="Chart 7" descr=""/>
          <p:cNvPicPr/>
          <p:nvPr/>
        </p:nvPicPr>
        <p:blipFill>
          <a:blip r:embed="rId2"/>
          <a:stretch/>
        </p:blipFill>
        <p:spPr>
          <a:xfrm>
            <a:off x="4548240" y="2200320"/>
            <a:ext cx="4443480" cy="3822480"/>
          </a:xfrm>
          <a:prstGeom prst="rect">
            <a:avLst/>
          </a:prstGeom>
          <a:ln w="0">
            <a:noFill/>
          </a:ln>
        </p:spPr>
      </p:pic>
      <p:sp>
        <p:nvSpPr>
          <p:cNvPr id="1162" name="Rectangle 2"/>
          <p:cNvSpPr/>
          <p:nvPr/>
        </p:nvSpPr>
        <p:spPr>
          <a:xfrm>
            <a:off x="2286000" y="119700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ea typeface="Verdana"/>
              </a:rPr>
              <a:t> </a:t>
            </a:r>
            <a:r>
              <a:rPr b="1" lang="en-US" sz="1600" spc="-1" strike="noStrike">
                <a:solidFill>
                  <a:srgbClr val="0f5494"/>
                </a:solidFill>
                <a:latin typeface="Verdana"/>
                <a:ea typeface="Verdana"/>
              </a:rPr>
              <a:t>Duración de las movilidades</a:t>
            </a:r>
            <a:br>
              <a:rPr sz="1600"/>
            </a:br>
            <a:r>
              <a:rPr b="1" lang="en-US" sz="1600" spc="-1" strike="noStrike">
                <a:solidFill>
                  <a:srgbClr val="0f5494"/>
                </a:solidFill>
                <a:latin typeface="Verdana"/>
                <a:ea typeface="Verdana"/>
              </a:rPr>
              <a:t>(América Latina regional y lotes por país, Erasmus Mundus Acción 2)</a:t>
            </a:r>
            <a:endParaRPr b="1" lang="en-US" sz="1600" spc="-1" strike="noStrike">
              <a:solidFill>
                <a:srgbClr val="ffd624"/>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3" name="Picture 3" descr=""/>
          <p:cNvPicPr/>
          <p:nvPr/>
        </p:nvPicPr>
        <p:blipFill>
          <a:blip r:embed="rId1"/>
          <a:srcRect l="0" t="0" r="25032" b="0"/>
          <a:stretch/>
        </p:blipFill>
        <p:spPr>
          <a:xfrm>
            <a:off x="4859280" y="1598760"/>
            <a:ext cx="3686400" cy="4390920"/>
          </a:xfrm>
          <a:prstGeom prst="rect">
            <a:avLst/>
          </a:prstGeom>
          <a:ln w="0">
            <a:noFill/>
          </a:ln>
        </p:spPr>
      </p:pic>
      <p:pic>
        <p:nvPicPr>
          <p:cNvPr id="1164" name="Picture 4" descr=""/>
          <p:cNvPicPr/>
          <p:nvPr/>
        </p:nvPicPr>
        <p:blipFill>
          <a:blip r:embed="rId2"/>
          <a:stretch/>
        </p:blipFill>
        <p:spPr>
          <a:xfrm>
            <a:off x="108000" y="2060640"/>
            <a:ext cx="3333600" cy="4000320"/>
          </a:xfrm>
          <a:prstGeom prst="rect">
            <a:avLst/>
          </a:prstGeom>
          <a:ln w="0">
            <a:noFill/>
          </a:ln>
        </p:spPr>
      </p:pic>
      <p:sp>
        <p:nvSpPr>
          <p:cNvPr id="1165" name="TextBox 5"/>
          <p:cNvSpPr/>
          <p:nvPr/>
        </p:nvSpPr>
        <p:spPr>
          <a:xfrm>
            <a:off x="468360" y="134136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EU mobility to LA</a:t>
            </a:r>
            <a:endParaRPr b="1" lang="en-US" sz="1800" spc="-1" strike="noStrike">
              <a:solidFill>
                <a:srgbClr val="ffd624"/>
              </a:solidFill>
              <a:latin typeface="Verdana"/>
            </a:endParaRPr>
          </a:p>
        </p:txBody>
      </p:sp>
      <p:sp>
        <p:nvSpPr>
          <p:cNvPr id="1166" name="TextBox 6"/>
          <p:cNvSpPr/>
          <p:nvPr/>
        </p:nvSpPr>
        <p:spPr>
          <a:xfrm>
            <a:off x="5867280" y="141300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LA mobility to EU</a:t>
            </a:r>
            <a:endParaRPr b="1" lang="en-US" sz="1800" spc="-1" strike="noStrike">
              <a:solidFill>
                <a:srgbClr val="ffd624"/>
              </a:solidFill>
              <a:latin typeface="Verdana"/>
            </a:endParaRPr>
          </a:p>
        </p:txBody>
      </p:sp>
      <p:sp>
        <p:nvSpPr>
          <p:cNvPr id="1167" name="TextBox 13"/>
          <p:cNvSpPr/>
          <p:nvPr/>
        </p:nvSpPr>
        <p:spPr>
          <a:xfrm>
            <a:off x="5072040" y="421956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2%</a:t>
            </a:r>
            <a:endParaRPr b="1" lang="en-US" sz="1200" spc="-1" strike="noStrike">
              <a:solidFill>
                <a:srgbClr val="ffd624"/>
              </a:solidFill>
              <a:latin typeface="Verdana"/>
            </a:endParaRPr>
          </a:p>
        </p:txBody>
      </p:sp>
      <p:cxnSp>
        <p:nvCxnSpPr>
          <p:cNvPr id="1168" name="Straight Arrow Connector 15"/>
          <p:cNvCxnSpPr/>
          <p:nvPr/>
        </p:nvCxnSpPr>
        <p:spPr>
          <a:xfrm>
            <a:off x="5354280" y="4495680"/>
            <a:ext cx="81360" cy="588240"/>
          </a:xfrm>
          <a:prstGeom prst="straightConnector1">
            <a:avLst/>
          </a:prstGeom>
          <a:ln w="38160">
            <a:solidFill>
              <a:srgbClr val="c00000"/>
            </a:solidFill>
            <a:miter/>
            <a:tailEnd len="med" type="arrow" w="med"/>
          </a:ln>
        </p:spPr>
      </p:cxnSp>
      <p:sp>
        <p:nvSpPr>
          <p:cNvPr id="1169" name="TextBox 19"/>
          <p:cNvSpPr/>
          <p:nvPr/>
        </p:nvSpPr>
        <p:spPr>
          <a:xfrm>
            <a:off x="4140360" y="422280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4%</a:t>
            </a:r>
            <a:endParaRPr b="1" lang="en-US" sz="1200" spc="-1" strike="noStrike">
              <a:solidFill>
                <a:srgbClr val="ffd624"/>
              </a:solidFill>
              <a:latin typeface="Verdana"/>
            </a:endParaRPr>
          </a:p>
        </p:txBody>
      </p:sp>
      <p:cxnSp>
        <p:nvCxnSpPr>
          <p:cNvPr id="1170" name="Straight Arrow Connector 20"/>
          <p:cNvCxnSpPr/>
          <p:nvPr/>
        </p:nvCxnSpPr>
        <p:spPr>
          <a:xfrm>
            <a:off x="4660560" y="4431960"/>
            <a:ext cx="399240" cy="437400"/>
          </a:xfrm>
          <a:prstGeom prst="straightConnector1">
            <a:avLst/>
          </a:prstGeom>
          <a:ln w="38160">
            <a:solidFill>
              <a:srgbClr val="c00000"/>
            </a:solidFill>
            <a:miter/>
            <a:tailEnd len="med" type="arrow" w="med"/>
          </a:ln>
        </p:spPr>
      </p:cxnSp>
      <p:cxnSp>
        <p:nvCxnSpPr>
          <p:cNvPr id="1171" name="Straight Arrow Connector 28"/>
          <p:cNvCxnSpPr/>
          <p:nvPr/>
        </p:nvCxnSpPr>
        <p:spPr>
          <a:xfrm flipH="1" flipV="1">
            <a:off x="6947640" y="5157000"/>
            <a:ext cx="288360" cy="646920"/>
          </a:xfrm>
          <a:prstGeom prst="straightConnector1">
            <a:avLst/>
          </a:prstGeom>
          <a:ln w="38160">
            <a:solidFill>
              <a:srgbClr val="c00000"/>
            </a:solidFill>
            <a:miter/>
            <a:tailEnd len="med" type="arrow" w="med"/>
          </a:ln>
        </p:spPr>
      </p:cxnSp>
      <p:sp>
        <p:nvSpPr>
          <p:cNvPr id="1172" name="TextBox 30"/>
          <p:cNvSpPr/>
          <p:nvPr/>
        </p:nvSpPr>
        <p:spPr>
          <a:xfrm>
            <a:off x="7018200" y="580392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1%</a:t>
            </a:r>
            <a:endParaRPr b="1" lang="en-US" sz="1200" spc="-1" strike="noStrike">
              <a:solidFill>
                <a:srgbClr val="ffd624"/>
              </a:solidFill>
              <a:latin typeface="Verdana"/>
            </a:endParaRPr>
          </a:p>
        </p:txBody>
      </p:sp>
      <p:cxnSp>
        <p:nvCxnSpPr>
          <p:cNvPr id="1173" name="Straight Arrow Connector 11"/>
          <p:cNvCxnSpPr/>
          <p:nvPr/>
        </p:nvCxnSpPr>
        <p:spPr>
          <a:xfrm flipH="1">
            <a:off x="2770920" y="2960280"/>
            <a:ext cx="577080" cy="685080"/>
          </a:xfrm>
          <a:prstGeom prst="straightConnector1">
            <a:avLst/>
          </a:prstGeom>
          <a:ln w="38160">
            <a:solidFill>
              <a:srgbClr val="c00000"/>
            </a:solidFill>
            <a:miter/>
            <a:tailEnd len="med" type="arrow" w="med"/>
          </a:ln>
        </p:spPr>
      </p:cxnSp>
      <p:sp>
        <p:nvSpPr>
          <p:cNvPr id="1174" name="TextBox 19"/>
          <p:cNvSpPr/>
          <p:nvPr/>
        </p:nvSpPr>
        <p:spPr>
          <a:xfrm>
            <a:off x="3130560" y="268272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3%</a:t>
            </a:r>
            <a:endParaRPr b="1" lang="en-US" sz="1200" spc="-1" strike="noStrike">
              <a:solidFill>
                <a:srgbClr val="ffd624"/>
              </a:solidFill>
              <a:latin typeface="Verdana"/>
            </a:endParaRPr>
          </a:p>
        </p:txBody>
      </p:sp>
      <p:sp>
        <p:nvSpPr>
          <p:cNvPr id="1175" name="Straight Connector 5"/>
          <p:cNvSpPr/>
          <p:nvPr/>
        </p:nvSpPr>
        <p:spPr>
          <a:xfrm>
            <a:off x="3924360" y="1525680"/>
            <a:ext cx="0" cy="4464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cxnSp>
        <p:nvCxnSpPr>
          <p:cNvPr id="1176" name="Straight Arrow Connector 18"/>
          <p:cNvCxnSpPr/>
          <p:nvPr/>
        </p:nvCxnSpPr>
        <p:spPr>
          <a:xfrm flipV="1">
            <a:off x="286920" y="2564640"/>
            <a:ext cx="397800" cy="864360"/>
          </a:xfrm>
          <a:prstGeom prst="straightConnector1">
            <a:avLst/>
          </a:prstGeom>
          <a:ln w="38160">
            <a:solidFill>
              <a:srgbClr val="c00000"/>
            </a:solidFill>
            <a:miter/>
            <a:tailEnd len="med" type="arrow" w="med"/>
          </a:ln>
        </p:spPr>
      </p:cxnSp>
      <p:sp>
        <p:nvSpPr>
          <p:cNvPr id="1177" name="TextBox 30"/>
          <p:cNvSpPr/>
          <p:nvPr/>
        </p:nvSpPr>
        <p:spPr>
          <a:xfrm>
            <a:off x="34920" y="345276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78" name="Straight Arrow Connector 24"/>
          <p:cNvCxnSpPr/>
          <p:nvPr/>
        </p:nvCxnSpPr>
        <p:spPr>
          <a:xfrm flipV="1">
            <a:off x="1512720" y="5085720"/>
            <a:ext cx="396000" cy="864360"/>
          </a:xfrm>
          <a:prstGeom prst="straightConnector1">
            <a:avLst/>
          </a:prstGeom>
          <a:ln w="38160">
            <a:solidFill>
              <a:srgbClr val="c00000"/>
            </a:solidFill>
            <a:miter/>
            <a:tailEnd len="med" type="arrow" w="med"/>
          </a:ln>
        </p:spPr>
      </p:cxnSp>
      <p:sp>
        <p:nvSpPr>
          <p:cNvPr id="1179" name="TextBox 30"/>
          <p:cNvSpPr/>
          <p:nvPr/>
        </p:nvSpPr>
        <p:spPr>
          <a:xfrm>
            <a:off x="1187280" y="598968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0" name="Straight Arrow Connector 26"/>
          <p:cNvCxnSpPr/>
          <p:nvPr/>
        </p:nvCxnSpPr>
        <p:spPr>
          <a:xfrm flipH="1" flipV="1">
            <a:off x="2268000" y="5013000"/>
            <a:ext cx="504000" cy="977040"/>
          </a:xfrm>
          <a:prstGeom prst="straightConnector1">
            <a:avLst/>
          </a:prstGeom>
          <a:ln w="38160">
            <a:solidFill>
              <a:srgbClr val="c00000"/>
            </a:solidFill>
            <a:miter/>
            <a:tailEnd len="med" type="arrow" w="med"/>
          </a:ln>
        </p:spPr>
      </p:cxnSp>
      <p:sp>
        <p:nvSpPr>
          <p:cNvPr id="1181" name="TextBox 30"/>
          <p:cNvSpPr/>
          <p:nvPr/>
        </p:nvSpPr>
        <p:spPr>
          <a:xfrm>
            <a:off x="2647800" y="602784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2" name="Straight Arrow Connector 29"/>
          <p:cNvCxnSpPr>
            <a:stCxn id="1183" idx="0"/>
          </p:cNvCxnSpPr>
          <p:nvPr/>
        </p:nvCxnSpPr>
        <p:spPr>
          <a:xfrm flipV="1">
            <a:off x="1427040" y="3933360"/>
            <a:ext cx="199440" cy="804240"/>
          </a:xfrm>
          <a:prstGeom prst="straightConnector1">
            <a:avLst/>
          </a:prstGeom>
          <a:ln w="38160">
            <a:solidFill>
              <a:srgbClr val="c00000"/>
            </a:solidFill>
            <a:miter/>
            <a:tailEnd len="med" type="arrow" w="med"/>
          </a:ln>
        </p:spPr>
      </p:cxnSp>
      <p:sp>
        <p:nvSpPr>
          <p:cNvPr id="1183" name="TextBox 30"/>
          <p:cNvSpPr/>
          <p:nvPr/>
        </p:nvSpPr>
        <p:spPr>
          <a:xfrm>
            <a:off x="1103400" y="4737240"/>
            <a:ext cx="64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a:t>
            </a:r>
            <a:endParaRPr b="1" lang="en-US" sz="1200" spc="-1" strike="noStrike">
              <a:solidFill>
                <a:srgbClr val="ffd624"/>
              </a:solidFill>
              <a:latin typeface="Verdana"/>
            </a:endParaRPr>
          </a:p>
        </p:txBody>
      </p:sp>
      <p:sp>
        <p:nvSpPr>
          <p:cNvPr id="1184" name="TextBox 19"/>
          <p:cNvSpPr/>
          <p:nvPr/>
        </p:nvSpPr>
        <p:spPr>
          <a:xfrm>
            <a:off x="5219640" y="383688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7%</a:t>
            </a:r>
            <a:endParaRPr b="1" lang="en-US" sz="1200" spc="-1" strike="noStrike">
              <a:solidFill>
                <a:srgbClr val="ffd624"/>
              </a:solidFill>
              <a:latin typeface="Verdana"/>
            </a:endParaRPr>
          </a:p>
        </p:txBody>
      </p:sp>
      <p:cxnSp>
        <p:nvCxnSpPr>
          <p:cNvPr id="1185" name="Straight Arrow Connector 35"/>
          <p:cNvCxnSpPr/>
          <p:nvPr/>
        </p:nvCxnSpPr>
        <p:spPr>
          <a:xfrm>
            <a:off x="5556240" y="4057200"/>
            <a:ext cx="529200" cy="375480"/>
          </a:xfrm>
          <a:prstGeom prst="straightConnector1">
            <a:avLst/>
          </a:prstGeom>
          <a:ln w="381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907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OM América Latina: observaciones</a:t>
            </a:r>
            <a:endParaRPr b="0" lang="en-US" sz="2000" spc="-1" strike="noStrike">
              <a:solidFill>
                <a:srgbClr val="000000"/>
              </a:solidFill>
              <a:latin typeface="Arial"/>
            </a:endParaRPr>
          </a:p>
        </p:txBody>
      </p:sp>
      <p:sp>
        <p:nvSpPr>
          <p:cNvPr id="1187" name=""/>
          <p:cNvSpPr txBox="1"/>
          <p:nvPr/>
        </p:nvSpPr>
        <p:spPr>
          <a:xfrm>
            <a:off x="395280" y="2492280"/>
            <a:ext cx="8229600" cy="41385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Preguntas abierta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Cómo podemos invertir en los resultados obtenidos y garantizar una cooperación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ambiado las universidades participantes en EM? Y cuáles son sus objetivos inmediato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ontribuido los proyectos de EM a la transferencia de conocimientos/tecnologías/innovación; cohesión social ; prospectiva profesional de los becarios/a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uáles son las sinergias con otros programas/proyectos y perspectiva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ómo mantener los niveles de cooperación alcanzados con EM y ALFA ? </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8" name=""/>
          <p:cNvGraphicFramePr/>
          <p:nvPr/>
        </p:nvGraphicFramePr>
        <p:xfrm>
          <a:off x="1403280" y="1700280"/>
          <a:ext cx="6096240" cy="579240"/>
        </p:xfrm>
        <a:graphic>
          <a:graphicData uri="http://schemas.openxmlformats.org/drawingml/2006/table">
            <a:tbl>
              <a:tblPr/>
              <a:tblGrid>
                <a:gridCol w="609624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790d8"/>
                          </a:solidFill>
                          <a:latin typeface="Calibri"/>
                        </a:rPr>
                        <a:t>Pertinencia, eficiencia, eficacia, impacto y sostenibilidad de la acción es positiva</a:t>
                      </a:r>
                      <a:endParaRPr b="1" lang="en-US" sz="1600" spc="-1" strike="noStrike">
                        <a:solidFill>
                          <a:srgbClr val="ffd62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7780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3a80"/>
                </a:solidFill>
                <a:latin typeface="Verdana"/>
              </a:rPr>
              <a:t>ERASMUS MUNDUS:  3 Acciones</a:t>
            </a:r>
            <a:endParaRPr b="1" lang="en-US" sz="3000" spc="-1" strike="noStrike">
              <a:solidFill>
                <a:srgbClr val="0f5494"/>
              </a:solidFill>
              <a:latin typeface="Verdana"/>
            </a:endParaRPr>
          </a:p>
        </p:txBody>
      </p:sp>
      <p:sp>
        <p:nvSpPr>
          <p:cNvPr id="1093" name="Rounded Rectangle 13"/>
          <p:cNvSpPr/>
          <p:nvPr/>
        </p:nvSpPr>
        <p:spPr>
          <a:xfrm>
            <a:off x="468360" y="2637000"/>
            <a:ext cx="5081400" cy="107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1: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Master Cours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Doctorates</a:t>
            </a:r>
            <a:endParaRPr b="1" lang="en-US" sz="1600" spc="-1" strike="noStrike">
              <a:solidFill>
                <a:srgbClr val="ffd624"/>
              </a:solidFill>
              <a:latin typeface="Verdana"/>
            </a:endParaRPr>
          </a:p>
        </p:txBody>
      </p:sp>
      <p:sp>
        <p:nvSpPr>
          <p:cNvPr id="1094" name="Rounded Rectangle 14"/>
          <p:cNvSpPr/>
          <p:nvPr/>
        </p:nvSpPr>
        <p:spPr>
          <a:xfrm>
            <a:off x="503280" y="4005360"/>
            <a:ext cx="5076720" cy="815760"/>
          </a:xfrm>
          <a:prstGeom prst="roundRect">
            <a:avLst>
              <a:gd name="adj" fmla="val 16667"/>
            </a:avLst>
          </a:prstGeom>
          <a:solidFill>
            <a:srgbClr val="69ae2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2: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Partenariados</a:t>
            </a:r>
            <a:endParaRPr b="1" lang="en-US" sz="1600" spc="-1" strike="noStrike">
              <a:solidFill>
                <a:srgbClr val="ffd624"/>
              </a:solidFill>
              <a:latin typeface="Verdana"/>
            </a:endParaRPr>
          </a:p>
        </p:txBody>
      </p:sp>
      <p:sp>
        <p:nvSpPr>
          <p:cNvPr id="1095" name="Rounded Rectangle 15"/>
          <p:cNvSpPr/>
          <p:nvPr/>
        </p:nvSpPr>
        <p:spPr>
          <a:xfrm>
            <a:off x="468360" y="5089680"/>
            <a:ext cx="8137440" cy="1076040"/>
          </a:xfrm>
          <a:prstGeom prst="roundRect">
            <a:avLst>
              <a:gd name="adj" fmla="val 16667"/>
            </a:avLst>
          </a:prstGeom>
          <a:solidFill>
            <a:srgbClr val="9c9c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rPr>
              <a:t>Acción 3:</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rPr>
              <a:t>Proyectos de promoción de la educación superior europea</a:t>
            </a:r>
            <a:endParaRPr b="1" lang="en-US" sz="1600" spc="-1" strike="noStrike">
              <a:solidFill>
                <a:srgbClr val="ffd624"/>
              </a:solidFill>
              <a:latin typeface="Verdana"/>
            </a:endParaRPr>
          </a:p>
        </p:txBody>
      </p:sp>
      <p:sp>
        <p:nvSpPr>
          <p:cNvPr id="1096" name="Right Brace 5"/>
          <p:cNvSpPr/>
          <p:nvPr/>
        </p:nvSpPr>
        <p:spPr>
          <a:xfrm>
            <a:off x="5580000" y="2557440"/>
            <a:ext cx="539640" cy="2263680"/>
          </a:xfrm>
          <a:custGeom>
            <a:avLst/>
            <a:gdLst>
              <a:gd name="textAreaLeft" fmla="*/ 0 w 539640"/>
              <a:gd name="textAreaRight" fmla="*/ 194760 w 539640"/>
              <a:gd name="textAreaTop" fmla="*/ 69120 h 2263680"/>
              <a:gd name="textAreaBottom" fmla="*/ 2194560 h 2263680"/>
            </a:gdLst>
            <a:ahLst/>
            <a:rect l="textAreaLeft" t="textAreaTop" r="textAreaRight" b="textAreaBottom"/>
            <a:pathLst>
              <a:path w="21600" h="21600">
                <a:moveTo>
                  <a:pt x="0" y="0"/>
                </a:moveTo>
                <a:cubicBezTo>
                  <a:pt x="5400" y="0"/>
                  <a:pt x="10800" y="1056"/>
                  <a:pt x="10800" y="2112"/>
                </a:cubicBezTo>
                <a:lnTo>
                  <a:pt x="10800" y="8688"/>
                </a:lnTo>
                <a:cubicBezTo>
                  <a:pt x="10800" y="9744"/>
                  <a:pt x="16200" y="10800"/>
                  <a:pt x="21600" y="10800"/>
                </a:cubicBezTo>
                <a:cubicBezTo>
                  <a:pt x="16200" y="10800"/>
                  <a:pt x="10800" y="11856"/>
                  <a:pt x="10800" y="12912"/>
                </a:cubicBezTo>
                <a:lnTo>
                  <a:pt x="10800" y="19488"/>
                </a:lnTo>
                <a:cubicBezTo>
                  <a:pt x="10800" y="20544"/>
                  <a:pt x="5400" y="21600"/>
                  <a:pt x="0" y="21600"/>
                </a:cubicBezTo>
              </a:path>
            </a:pathLst>
          </a:custGeom>
          <a:noFill/>
          <a:ln w="34920">
            <a:solidFill>
              <a:srgbClr val="00000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97" name="Rounded Rectangle 13"/>
          <p:cNvSpPr/>
          <p:nvPr/>
        </p:nvSpPr>
        <p:spPr>
          <a:xfrm>
            <a:off x="6191280" y="2527200"/>
            <a:ext cx="2628720" cy="2252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BECA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Estudiant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pregrado, maestria, doctorado y post doctorado) y personal (acad/admin.)</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EM-Acción 2 </a:t>
            </a:r>
            <a:br>
              <a:rPr sz="3000"/>
            </a:br>
            <a:r>
              <a:rPr b="1" lang="fr-BE" sz="3000" spc="-1" strike="noStrike">
                <a:solidFill>
                  <a:srgbClr val="0f5494"/>
                </a:solidFill>
                <a:latin typeface="Verdana"/>
              </a:rPr>
              <a:t>Partenariados 2007-2013</a:t>
            </a:r>
            <a:endParaRPr b="1" lang="en-US" sz="3000" spc="-1" strike="noStrike">
              <a:solidFill>
                <a:srgbClr val="0f5494"/>
              </a:solidFill>
              <a:latin typeface="Verdana"/>
            </a:endParaRPr>
          </a:p>
        </p:txBody>
      </p:sp>
      <p:sp>
        <p:nvSpPr>
          <p:cNvPr id="1099" name=""/>
          <p:cNvSpPr txBox="1"/>
          <p:nvPr/>
        </p:nvSpPr>
        <p:spPr>
          <a:xfrm>
            <a:off x="457200" y="2565360"/>
            <a:ext cx="8578800" cy="3167280"/>
          </a:xfrm>
          <a:prstGeom prst="rect">
            <a:avLst/>
          </a:prstGeom>
          <a:noFill/>
          <a:ln w="0">
            <a:noFill/>
          </a:ln>
        </p:spPr>
        <p:txBody>
          <a:bodyPr anchor="t">
            <a:norm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77 partenariados </a:t>
            </a:r>
            <a:endParaRPr b="0" i="1" lang="en-US" sz="28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421 universidades</a:t>
            </a:r>
            <a:endParaRPr b="0" i="1" lang="en-US" sz="2800" spc="-1" strike="noStrike">
              <a:solidFill>
                <a:srgbClr val="0f5494"/>
              </a:solidFill>
              <a:latin typeface="Verdana"/>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0f5494"/>
                </a:solidFill>
                <a:latin typeface="Verdana"/>
              </a:rPr>
              <a:t>409 UE y 1.012 no-UE</a:t>
            </a:r>
            <a:endParaRPr b="0" i="1" lang="en-US" sz="2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f5494"/>
                </a:solidFill>
                <a:latin typeface="Verdana"/>
              </a:rPr>
              <a:t>44.490 movilidades hasta la fecha </a:t>
            </a: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457200" y="2276640"/>
            <a:ext cx="8229600" cy="392256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Un total de </a:t>
            </a:r>
            <a:r>
              <a:rPr b="1" lang="fr-BE" sz="2400" spc="-1" strike="noStrike">
                <a:solidFill>
                  <a:srgbClr val="0f5494"/>
                </a:solidFill>
                <a:latin typeface="Verdana"/>
              </a:rPr>
              <a:t>196 universidades de América Latina </a:t>
            </a:r>
            <a:r>
              <a:rPr b="0" lang="fr-BE" sz="2400" spc="-1" strike="noStrike">
                <a:solidFill>
                  <a:srgbClr val="0f5494"/>
                </a:solidFill>
                <a:latin typeface="Verdana"/>
              </a:rPr>
              <a:t>participaron e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27 proyectos en el lote Regional  </a:t>
            </a:r>
            <a:r>
              <a:rPr b="0" lang="fr-BE" sz="2400" spc="-1" strike="noStrike">
                <a:solidFill>
                  <a:srgbClr val="0f5494"/>
                </a:solidFill>
                <a:latin typeface="Verdana"/>
              </a:rPr>
              <a:t>(2009-12-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18 proyectos en lotes  bilaterales </a:t>
            </a:r>
            <a:r>
              <a:rPr b="0" lang="fr-BE" sz="2400" spc="-1" strike="noStrike">
                <a:solidFill>
                  <a:srgbClr val="0f5494"/>
                </a:solidFill>
                <a:latin typeface="Verdana"/>
              </a:rPr>
              <a:t>(2008-09-10-11-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Total 2009-2014 = </a:t>
            </a:r>
            <a:r>
              <a:rPr b="1" lang="fr-BE" sz="2400" spc="-1" strike="noStrike">
                <a:solidFill>
                  <a:srgbClr val="0f5494"/>
                </a:solidFill>
                <a:latin typeface="Verdana"/>
              </a:rPr>
              <a:t>53 partenariado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Presupuesto total América Latina 161 M€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1" name="Title 1"/>
          <p:cNvSpPr/>
          <p:nvPr/>
        </p:nvSpPr>
        <p:spPr>
          <a:xfrm>
            <a:off x="468360" y="1197000"/>
            <a:ext cx="8229600" cy="863640"/>
          </a:xfrm>
          <a:prstGeom prst="rect">
            <a:avLst/>
          </a:prstGeom>
          <a:noFill/>
          <a:ln w="0">
            <a:noFill/>
          </a:ln>
        </p:spPr>
        <p:style>
          <a:lnRef idx="0"/>
          <a:fillRef idx="0"/>
          <a:effectRef idx="0"/>
          <a:fontRef idx="minor"/>
        </p:style>
        <p:txBody>
          <a:bodyPr lIns="90000" rIns="90000" tIns="46800" bIns="46800" anchor="ctr">
            <a:normAutofit fontScale="84000"/>
          </a:bodyPr>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ea typeface="Arial"/>
              </a:rPr>
              <a:t>EM Acción 2 </a:t>
            </a:r>
            <a:r>
              <a:rPr b="1" lang="en-GB" sz="3000" spc="-1" strike="noStrike">
                <a:solidFill>
                  <a:srgbClr val="0f5494"/>
                </a:solidFill>
                <a:latin typeface="Verdana"/>
                <a:ea typeface="Arial"/>
              </a:rPr>
              <a:t>: </a:t>
            </a:r>
            <a:endParaRPr b="1" lang="en-US" sz="3000" spc="-1" strike="noStrike">
              <a:solidFill>
                <a:srgbClr val="ffd624"/>
              </a:solidFill>
              <a:latin typeface="Verdana"/>
            </a:endParaRPr>
          </a:p>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Arial"/>
              </a:rPr>
              <a:t>Partenariados América Latina</a:t>
            </a:r>
            <a:endParaRPr b="1" lang="en-US" sz="3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Picture 11" descr="C:\Users\saenzaa\Desktop\Logos partenariados EM\logo-em-2.png"/>
          <p:cNvPicPr/>
          <p:nvPr/>
        </p:nvPicPr>
        <p:blipFill>
          <a:blip r:embed="rId1"/>
          <a:stretch/>
        </p:blipFill>
        <p:spPr>
          <a:xfrm>
            <a:off x="5435640" y="1268280"/>
            <a:ext cx="3048120" cy="1047960"/>
          </a:xfrm>
          <a:prstGeom prst="rect">
            <a:avLst/>
          </a:prstGeom>
          <a:ln w="0">
            <a:noFill/>
          </a:ln>
        </p:spPr>
      </p:pic>
      <p:pic>
        <p:nvPicPr>
          <p:cNvPr id="1103" name="Picture 12" descr="C:\Users\saenzaa\Desktop\Logos partenariados EM\Mundus Lindo.gif"/>
          <p:cNvPicPr/>
          <p:nvPr/>
        </p:nvPicPr>
        <p:blipFill>
          <a:blip r:embed="rId2"/>
          <a:stretch/>
        </p:blipFill>
        <p:spPr>
          <a:xfrm>
            <a:off x="3179880" y="5157720"/>
            <a:ext cx="1057320" cy="952560"/>
          </a:xfrm>
          <a:prstGeom prst="rect">
            <a:avLst/>
          </a:prstGeom>
          <a:ln w="0">
            <a:noFill/>
          </a:ln>
        </p:spPr>
      </p:pic>
      <p:pic>
        <p:nvPicPr>
          <p:cNvPr id="1104" name="Picture 13" descr="C:\Users\saenzaa\Desktop\Logos partenariados EM\202925_1peace-logotype.jpg"/>
          <p:cNvPicPr/>
          <p:nvPr/>
        </p:nvPicPr>
        <p:blipFill>
          <a:blip r:embed="rId3"/>
          <a:stretch/>
        </p:blipFill>
        <p:spPr>
          <a:xfrm>
            <a:off x="150840" y="1247760"/>
            <a:ext cx="3916440" cy="1682640"/>
          </a:xfrm>
          <a:prstGeom prst="rect">
            <a:avLst/>
          </a:prstGeom>
          <a:ln w="0">
            <a:noFill/>
          </a:ln>
        </p:spPr>
      </p:pic>
      <p:pic>
        <p:nvPicPr>
          <p:cNvPr id="1105" name="Picture 15" descr="C:\Users\saenzaa\Desktop\Logos partenariados EM\BABEL.gif"/>
          <p:cNvPicPr/>
          <p:nvPr/>
        </p:nvPicPr>
        <p:blipFill>
          <a:blip r:embed="rId4"/>
          <a:stretch/>
        </p:blipFill>
        <p:spPr>
          <a:xfrm>
            <a:off x="6516720" y="5521320"/>
            <a:ext cx="1762200" cy="762120"/>
          </a:xfrm>
          <a:prstGeom prst="rect">
            <a:avLst/>
          </a:prstGeom>
          <a:ln w="0">
            <a:noFill/>
          </a:ln>
        </p:spPr>
      </p:pic>
      <p:pic>
        <p:nvPicPr>
          <p:cNvPr id="1106" name="Picture 16" descr="C:\Users\saenzaa\Desktop\Logos partenariados EM\Bemundus.gif"/>
          <p:cNvPicPr/>
          <p:nvPr/>
        </p:nvPicPr>
        <p:blipFill>
          <a:blip r:embed="rId5"/>
          <a:stretch/>
        </p:blipFill>
        <p:spPr>
          <a:xfrm>
            <a:off x="3708360" y="3716280"/>
            <a:ext cx="1847880" cy="952560"/>
          </a:xfrm>
          <a:prstGeom prst="rect">
            <a:avLst/>
          </a:prstGeom>
          <a:ln w="0">
            <a:noFill/>
          </a:ln>
        </p:spPr>
      </p:pic>
      <p:pic>
        <p:nvPicPr>
          <p:cNvPr id="1107" name="Picture 17" descr="C:\Users\saenzaa\Desktop\Logos partenariados EM\image_mini.jpg"/>
          <p:cNvPicPr/>
          <p:nvPr/>
        </p:nvPicPr>
        <p:blipFill>
          <a:blip r:embed="rId6"/>
          <a:stretch/>
        </p:blipFill>
        <p:spPr>
          <a:xfrm>
            <a:off x="179280" y="3645000"/>
            <a:ext cx="1905120" cy="933480"/>
          </a:xfrm>
          <a:prstGeom prst="rect">
            <a:avLst/>
          </a:prstGeom>
          <a:ln w="0">
            <a:noFill/>
          </a:ln>
        </p:spPr>
      </p:pic>
      <p:pic>
        <p:nvPicPr>
          <p:cNvPr id="1108" name="Picture 18" descr="C:\Users\saenzaa\Desktop\Logos partenariados EM\logo.gif"/>
          <p:cNvPicPr/>
          <p:nvPr/>
        </p:nvPicPr>
        <p:blipFill>
          <a:blip r:embed="rId7"/>
          <a:stretch/>
        </p:blipFill>
        <p:spPr>
          <a:xfrm>
            <a:off x="711360" y="5032440"/>
            <a:ext cx="1514160" cy="447480"/>
          </a:xfrm>
          <a:prstGeom prst="rect">
            <a:avLst/>
          </a:prstGeom>
          <a:ln w="0">
            <a:noFill/>
          </a:ln>
        </p:spPr>
      </p:pic>
      <p:pic>
        <p:nvPicPr>
          <p:cNvPr id="1109" name="Picture 19" descr="C:\Users\saenzaa\Desktop\Logos partenariados EM\logo_fellow.png"/>
          <p:cNvPicPr/>
          <p:nvPr/>
        </p:nvPicPr>
        <p:blipFill>
          <a:blip r:embed="rId8"/>
          <a:stretch/>
        </p:blipFill>
        <p:spPr>
          <a:xfrm>
            <a:off x="6372360" y="3068640"/>
            <a:ext cx="2705040" cy="170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0" name=""/>
          <p:cNvSpPr txBox="1"/>
          <p:nvPr/>
        </p:nvSpPr>
        <p:spPr>
          <a:xfrm>
            <a:off x="457200" y="2565360"/>
            <a:ext cx="8229600" cy="36338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11" name="Diagram 3" descr=""/>
          <p:cNvPicPr/>
          <p:nvPr/>
        </p:nvPicPr>
        <p:blipFill>
          <a:blip r:embed="rId1"/>
          <a:stretch/>
        </p:blipFill>
        <p:spPr>
          <a:xfrm>
            <a:off x="609480" y="1341360"/>
            <a:ext cx="7778880" cy="4791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Prioridades</a:t>
            </a:r>
            <a:endParaRPr b="1" lang="en-US" sz="3200" spc="-1" strike="noStrike">
              <a:solidFill>
                <a:srgbClr val="0f5494"/>
              </a:solidFill>
              <a:latin typeface="Verdana"/>
            </a:endParaRPr>
          </a:p>
        </p:txBody>
      </p:sp>
      <p:sp>
        <p:nvSpPr>
          <p:cNvPr id="111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mportancia por el desarrollo económico y social de la región de AL</a:t>
            </a:r>
            <a:endParaRPr b="0" i="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Cubertura geográfica (Países Grupo A) / Integración de instituciones y estudiantes en areas remota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TG 3: grupos vulnerable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Igualdad de género, estudiantes  en desventaja socio-económica</a:t>
            </a:r>
            <a:r>
              <a:rPr b="1" lang="fr-BE" sz="1800" spc="-1" strike="noStrike">
                <a:solidFill>
                  <a:srgbClr val="0f5494"/>
                </a:solidFill>
                <a:latin typeface="Verdana"/>
              </a:rPr>
              <a:t>	</a:t>
            </a:r>
            <a:endParaRPr b="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itle 1"/>
          <p:cNvSpPr/>
          <p:nvPr/>
        </p:nvSpPr>
        <p:spPr>
          <a:xfrm>
            <a:off x="46080" y="150840"/>
            <a:ext cx="3457440" cy="92232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3200" spc="-1" strike="noStrike">
                <a:solidFill>
                  <a:srgbClr val="ffffff"/>
                </a:solidFill>
                <a:latin typeface="Verdana"/>
              </a:rPr>
              <a:t>ARGENTINA</a:t>
            </a:r>
            <a:endParaRPr b="1" lang="en-US" sz="3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Prioridad Geográfica</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ffd624"/>
              </a:solidFill>
              <a:latin typeface="Verdana"/>
            </a:endParaRPr>
          </a:p>
        </p:txBody>
      </p:sp>
      <p:sp>
        <p:nvSpPr>
          <p:cNvPr id="1115" name="Freeform 43"/>
          <p:cNvSpPr/>
          <p:nvPr/>
        </p:nvSpPr>
        <p:spPr>
          <a:xfrm>
            <a:off x="4508640" y="4014720"/>
            <a:ext cx="68040" cy="138240"/>
          </a:xfrm>
          <a:custGeom>
            <a:avLst/>
            <a:gdLst/>
            <a:ahLst/>
            <a:rect l="l" t="t" r="r" b="b"/>
            <a:pathLst>
              <a:path w="74140" h="148281">
                <a:moveTo>
                  <a:pt x="61783" y="0"/>
                </a:moveTo>
                <a:lnTo>
                  <a:pt x="0" y="30891"/>
                </a:lnTo>
                <a:lnTo>
                  <a:pt x="6178" y="142102"/>
                </a:lnTo>
                <a:lnTo>
                  <a:pt x="74140" y="148281"/>
                </a:lnTo>
                <a:lnTo>
                  <a:pt x="61783"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6" name="Freeform 44"/>
          <p:cNvSpPr/>
          <p:nvPr/>
        </p:nvSpPr>
        <p:spPr>
          <a:xfrm>
            <a:off x="4554360" y="6561000"/>
            <a:ext cx="103320" cy="46080"/>
          </a:xfrm>
          <a:custGeom>
            <a:avLst/>
            <a:gdLst/>
            <a:ahLst/>
            <a:rect l="l" t="t" r="r" b="b"/>
            <a:pathLst>
              <a:path w="111211" h="49427">
                <a:moveTo>
                  <a:pt x="18535" y="0"/>
                </a:moveTo>
                <a:lnTo>
                  <a:pt x="0" y="49427"/>
                </a:lnTo>
                <a:lnTo>
                  <a:pt x="61784" y="37070"/>
                </a:lnTo>
                <a:lnTo>
                  <a:pt x="111211" y="0"/>
                </a:lnTo>
                <a:lnTo>
                  <a:pt x="18535" y="0"/>
                </a:lnTo>
                <a:close/>
              </a:path>
            </a:pathLst>
          </a:custGeom>
          <a:solidFill>
            <a:srgbClr val="006c86"/>
          </a:solidFill>
          <a:ln w="12600">
            <a:solidFill>
              <a:srgbClr val="00b0f0"/>
            </a:solidFill>
            <a:round/>
          </a:ln>
        </p:spPr>
        <p:style>
          <a:lnRef idx="0"/>
          <a:fillRef idx="0"/>
          <a:effectRef idx="0"/>
          <a:fontRef idx="minor"/>
        </p:style>
        <p:txBody>
          <a:bodyPr lIns="90000" rIns="90000" tIns="-720" bIns="-720" anchor="t">
            <a:noAutofit/>
          </a:bodyPr>
          <a:p>
            <a:endParaRPr b="1" lang="en-US" sz="7600" spc="-1" strike="noStrike">
              <a:solidFill>
                <a:srgbClr val="ffd624"/>
              </a:solidFill>
              <a:latin typeface="Verdana"/>
            </a:endParaRPr>
          </a:p>
        </p:txBody>
      </p:sp>
      <p:sp>
        <p:nvSpPr>
          <p:cNvPr id="1117" name="Freeform 51"/>
          <p:cNvSpPr/>
          <p:nvPr/>
        </p:nvSpPr>
        <p:spPr>
          <a:xfrm>
            <a:off x="6138720" y="5538960"/>
            <a:ext cx="47880" cy="7920"/>
          </a:xfrm>
          <a:custGeom>
            <a:avLst/>
            <a:gdLst/>
            <a:ahLst/>
            <a:rect l="l" t="t" r="r" b="b"/>
            <a:pathLst>
              <a:path w="50659" h="7599">
                <a:moveTo>
                  <a:pt x="0" y="0"/>
                </a:moveTo>
                <a:lnTo>
                  <a:pt x="-14877" y="7599"/>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38880" bIns="-38880" anchor="t">
            <a:noAutofit/>
          </a:bodyPr>
          <a:p>
            <a:endParaRPr b="1" lang="en-US" sz="7600" spc="-1" strike="noStrike">
              <a:solidFill>
                <a:srgbClr val="ffd624"/>
              </a:solidFill>
              <a:latin typeface="Verdana"/>
            </a:endParaRPr>
          </a:p>
        </p:txBody>
      </p:sp>
      <p:sp>
        <p:nvSpPr>
          <p:cNvPr id="1118" name="Freeform 5"/>
          <p:cNvSpPr/>
          <p:nvPr/>
        </p:nvSpPr>
        <p:spPr>
          <a:xfrm>
            <a:off x="4060800" y="6184800"/>
            <a:ext cx="447840" cy="452520"/>
          </a:xfrm>
          <a:custGeom>
            <a:avLst/>
            <a:gdLst/>
            <a:ahLst/>
            <a:rect l="l" t="t" r="r" b="b"/>
            <a:pathLst>
              <a:path w="481913" h="488091">
                <a:moveTo>
                  <a:pt x="0" y="0"/>
                </a:moveTo>
                <a:lnTo>
                  <a:pt x="74140" y="475735"/>
                </a:lnTo>
                <a:lnTo>
                  <a:pt x="191529" y="457200"/>
                </a:lnTo>
                <a:lnTo>
                  <a:pt x="333632" y="488091"/>
                </a:lnTo>
                <a:lnTo>
                  <a:pt x="420129" y="457200"/>
                </a:lnTo>
                <a:lnTo>
                  <a:pt x="481913" y="383059"/>
                </a:lnTo>
                <a:lnTo>
                  <a:pt x="364524" y="407772"/>
                </a:lnTo>
                <a:lnTo>
                  <a:pt x="228600" y="327454"/>
                </a:lnTo>
                <a:lnTo>
                  <a:pt x="135924" y="210064"/>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9" name="TextBox 55"/>
          <p:cNvSpPr/>
          <p:nvPr/>
        </p:nvSpPr>
        <p:spPr>
          <a:xfrm>
            <a:off x="95400" y="2151000"/>
            <a:ext cx="2388960" cy="4425840"/>
          </a:xfrm>
          <a:prstGeom prst="rect">
            <a:avLst/>
          </a:prstGeom>
          <a:solidFill>
            <a:srgbClr val="f58220"/>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we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ntiago del Ester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Tucuman</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atamarc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lta y Jujuy</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CATAMARC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JUJU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LT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NTIAGO DEL ESTERO</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TUCAMAN</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1120" name="Freeform 13"/>
          <p:cNvSpPr/>
          <p:nvPr/>
        </p:nvSpPr>
        <p:spPr>
          <a:xfrm>
            <a:off x="3911760" y="-22320"/>
            <a:ext cx="596880" cy="577800"/>
          </a:xfrm>
          <a:custGeom>
            <a:avLst/>
            <a:gdLst/>
            <a:ahLst/>
            <a:rect l="l" t="t" r="r" b="b"/>
            <a:pathLst>
              <a:path w="597665" h="578386">
                <a:moveTo>
                  <a:pt x="187287" y="0"/>
                </a:moveTo>
                <a:lnTo>
                  <a:pt x="143219" y="96398"/>
                </a:lnTo>
                <a:lnTo>
                  <a:pt x="68855" y="134957"/>
                </a:lnTo>
                <a:lnTo>
                  <a:pt x="24788" y="190041"/>
                </a:lnTo>
                <a:lnTo>
                  <a:pt x="13771" y="242371"/>
                </a:lnTo>
                <a:lnTo>
                  <a:pt x="57839" y="294701"/>
                </a:lnTo>
                <a:lnTo>
                  <a:pt x="0" y="432412"/>
                </a:lnTo>
                <a:lnTo>
                  <a:pt x="55084" y="435167"/>
                </a:lnTo>
                <a:lnTo>
                  <a:pt x="137711" y="512285"/>
                </a:lnTo>
                <a:lnTo>
                  <a:pt x="168007" y="504022"/>
                </a:lnTo>
                <a:lnTo>
                  <a:pt x="181778" y="402116"/>
                </a:lnTo>
                <a:lnTo>
                  <a:pt x="176270" y="360803"/>
                </a:lnTo>
                <a:lnTo>
                  <a:pt x="203812" y="330506"/>
                </a:lnTo>
                <a:lnTo>
                  <a:pt x="256142" y="399362"/>
                </a:lnTo>
                <a:lnTo>
                  <a:pt x="225846" y="446183"/>
                </a:lnTo>
                <a:lnTo>
                  <a:pt x="286439" y="470971"/>
                </a:lnTo>
                <a:lnTo>
                  <a:pt x="308472" y="537073"/>
                </a:lnTo>
                <a:lnTo>
                  <a:pt x="377328" y="542581"/>
                </a:lnTo>
                <a:lnTo>
                  <a:pt x="465463" y="578386"/>
                </a:lnTo>
                <a:lnTo>
                  <a:pt x="465463" y="578386"/>
                </a:lnTo>
                <a:lnTo>
                  <a:pt x="504022" y="572877"/>
                </a:lnTo>
                <a:lnTo>
                  <a:pt x="561860" y="531564"/>
                </a:lnTo>
                <a:lnTo>
                  <a:pt x="597665" y="457200"/>
                </a:lnTo>
                <a:lnTo>
                  <a:pt x="592157" y="410379"/>
                </a:lnTo>
                <a:lnTo>
                  <a:pt x="578385" y="338769"/>
                </a:lnTo>
                <a:lnTo>
                  <a:pt x="526055" y="360803"/>
                </a:lnTo>
                <a:lnTo>
                  <a:pt x="495759" y="336015"/>
                </a:lnTo>
                <a:lnTo>
                  <a:pt x="443429" y="363557"/>
                </a:lnTo>
                <a:lnTo>
                  <a:pt x="413132" y="256142"/>
                </a:lnTo>
                <a:lnTo>
                  <a:pt x="363557" y="239617"/>
                </a:lnTo>
                <a:lnTo>
                  <a:pt x="363557" y="154236"/>
                </a:lnTo>
                <a:lnTo>
                  <a:pt x="380082" y="85381"/>
                </a:lnTo>
                <a:lnTo>
                  <a:pt x="324998" y="85381"/>
                </a:lnTo>
                <a:lnTo>
                  <a:pt x="278176" y="60593"/>
                </a:lnTo>
                <a:lnTo>
                  <a:pt x="225846" y="68856"/>
                </a:lnTo>
                <a:lnTo>
                  <a:pt x="18728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1" name="Freeform 15"/>
          <p:cNvSpPr/>
          <p:nvPr/>
        </p:nvSpPr>
        <p:spPr>
          <a:xfrm>
            <a:off x="3668760" y="36360"/>
            <a:ext cx="1158840" cy="863640"/>
          </a:xfrm>
          <a:custGeom>
            <a:avLst/>
            <a:gdLst/>
            <a:ahLst/>
            <a:rect l="l" t="t" r="r" b="b"/>
            <a:pathLst>
              <a:path w="1159525" h="864824">
                <a:moveTo>
                  <a:pt x="619699" y="35805"/>
                </a:moveTo>
                <a:lnTo>
                  <a:pt x="696817" y="27542"/>
                </a:lnTo>
                <a:lnTo>
                  <a:pt x="782197" y="132202"/>
                </a:lnTo>
                <a:lnTo>
                  <a:pt x="840036" y="68855"/>
                </a:lnTo>
                <a:lnTo>
                  <a:pt x="820756" y="30296"/>
                </a:lnTo>
                <a:lnTo>
                  <a:pt x="867578" y="0"/>
                </a:lnTo>
                <a:lnTo>
                  <a:pt x="922663" y="41313"/>
                </a:lnTo>
                <a:lnTo>
                  <a:pt x="977747" y="13771"/>
                </a:lnTo>
                <a:lnTo>
                  <a:pt x="1096178" y="24788"/>
                </a:lnTo>
                <a:lnTo>
                  <a:pt x="1154017" y="118431"/>
                </a:lnTo>
                <a:lnTo>
                  <a:pt x="1159525" y="479234"/>
                </a:lnTo>
                <a:lnTo>
                  <a:pt x="969484" y="732622"/>
                </a:lnTo>
                <a:lnTo>
                  <a:pt x="815248" y="746393"/>
                </a:lnTo>
                <a:lnTo>
                  <a:pt x="760164" y="862070"/>
                </a:lnTo>
                <a:lnTo>
                  <a:pt x="655503" y="845544"/>
                </a:lnTo>
                <a:lnTo>
                  <a:pt x="608682" y="801477"/>
                </a:lnTo>
                <a:lnTo>
                  <a:pt x="553597" y="829019"/>
                </a:lnTo>
                <a:lnTo>
                  <a:pt x="548089" y="864824"/>
                </a:lnTo>
                <a:lnTo>
                  <a:pt x="465463" y="831773"/>
                </a:lnTo>
                <a:lnTo>
                  <a:pt x="413132" y="864824"/>
                </a:lnTo>
                <a:lnTo>
                  <a:pt x="347031" y="754655"/>
                </a:lnTo>
                <a:lnTo>
                  <a:pt x="393853" y="718850"/>
                </a:lnTo>
                <a:lnTo>
                  <a:pt x="388344" y="641732"/>
                </a:lnTo>
                <a:lnTo>
                  <a:pt x="209320" y="644487"/>
                </a:lnTo>
                <a:lnTo>
                  <a:pt x="181778" y="672029"/>
                </a:lnTo>
                <a:lnTo>
                  <a:pt x="41313" y="614190"/>
                </a:lnTo>
                <a:lnTo>
                  <a:pt x="0" y="575631"/>
                </a:lnTo>
                <a:lnTo>
                  <a:pt x="49576" y="501267"/>
                </a:lnTo>
                <a:lnTo>
                  <a:pt x="234108" y="429658"/>
                </a:lnTo>
                <a:lnTo>
                  <a:pt x="242371" y="371819"/>
                </a:lnTo>
                <a:lnTo>
                  <a:pt x="297455" y="374573"/>
                </a:lnTo>
                <a:lnTo>
                  <a:pt x="382836" y="459954"/>
                </a:lnTo>
                <a:lnTo>
                  <a:pt x="410378" y="454446"/>
                </a:lnTo>
                <a:lnTo>
                  <a:pt x="421395" y="305718"/>
                </a:lnTo>
                <a:lnTo>
                  <a:pt x="446183" y="269913"/>
                </a:lnTo>
                <a:lnTo>
                  <a:pt x="493005" y="327752"/>
                </a:lnTo>
                <a:lnTo>
                  <a:pt x="468217" y="391099"/>
                </a:lnTo>
                <a:lnTo>
                  <a:pt x="523301" y="418641"/>
                </a:lnTo>
                <a:lnTo>
                  <a:pt x="553597" y="479234"/>
                </a:lnTo>
                <a:lnTo>
                  <a:pt x="616944" y="481988"/>
                </a:lnTo>
                <a:lnTo>
                  <a:pt x="716096" y="520547"/>
                </a:lnTo>
                <a:lnTo>
                  <a:pt x="782197" y="481988"/>
                </a:lnTo>
                <a:lnTo>
                  <a:pt x="840036" y="385590"/>
                </a:lnTo>
                <a:lnTo>
                  <a:pt x="818002" y="275422"/>
                </a:lnTo>
                <a:lnTo>
                  <a:pt x="784952" y="308472"/>
                </a:lnTo>
                <a:lnTo>
                  <a:pt x="732622" y="272667"/>
                </a:lnTo>
                <a:lnTo>
                  <a:pt x="677537" y="302964"/>
                </a:lnTo>
                <a:lnTo>
                  <a:pt x="652749" y="198303"/>
                </a:lnTo>
                <a:lnTo>
                  <a:pt x="597665" y="184532"/>
                </a:lnTo>
                <a:lnTo>
                  <a:pt x="619699" y="35805"/>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2" name="Freeform 25"/>
          <p:cNvSpPr/>
          <p:nvPr/>
        </p:nvSpPr>
        <p:spPr>
          <a:xfrm>
            <a:off x="3608280" y="663480"/>
            <a:ext cx="792360" cy="989280"/>
          </a:xfrm>
          <a:custGeom>
            <a:avLst/>
            <a:gdLst/>
            <a:ahLst/>
            <a:rect l="l" t="t" r="r" b="b"/>
            <a:pathLst>
              <a:path w="793215" h="988764">
                <a:moveTo>
                  <a:pt x="115677" y="0"/>
                </a:moveTo>
                <a:lnTo>
                  <a:pt x="79872" y="115677"/>
                </a:lnTo>
                <a:lnTo>
                  <a:pt x="129448" y="209321"/>
                </a:lnTo>
                <a:lnTo>
                  <a:pt x="79872" y="269914"/>
                </a:lnTo>
                <a:lnTo>
                  <a:pt x="151482" y="363557"/>
                </a:lnTo>
                <a:lnTo>
                  <a:pt x="129448" y="418641"/>
                </a:lnTo>
                <a:lnTo>
                  <a:pt x="46822" y="413133"/>
                </a:lnTo>
                <a:lnTo>
                  <a:pt x="33051" y="481988"/>
                </a:lnTo>
                <a:lnTo>
                  <a:pt x="0" y="512285"/>
                </a:lnTo>
                <a:lnTo>
                  <a:pt x="0" y="545335"/>
                </a:lnTo>
                <a:lnTo>
                  <a:pt x="123940" y="526056"/>
                </a:lnTo>
                <a:lnTo>
                  <a:pt x="143219" y="603174"/>
                </a:lnTo>
                <a:lnTo>
                  <a:pt x="168007" y="630716"/>
                </a:lnTo>
                <a:lnTo>
                  <a:pt x="212075" y="614191"/>
                </a:lnTo>
                <a:lnTo>
                  <a:pt x="220337" y="652750"/>
                </a:lnTo>
                <a:lnTo>
                  <a:pt x="352540" y="669275"/>
                </a:lnTo>
                <a:lnTo>
                  <a:pt x="382836" y="616945"/>
                </a:lnTo>
                <a:lnTo>
                  <a:pt x="443429" y="625207"/>
                </a:lnTo>
                <a:lnTo>
                  <a:pt x="504022" y="702326"/>
                </a:lnTo>
                <a:lnTo>
                  <a:pt x="495759" y="749147"/>
                </a:lnTo>
                <a:lnTo>
                  <a:pt x="641733" y="873087"/>
                </a:lnTo>
                <a:lnTo>
                  <a:pt x="677537" y="988764"/>
                </a:lnTo>
                <a:lnTo>
                  <a:pt x="768427" y="980501"/>
                </a:lnTo>
                <a:lnTo>
                  <a:pt x="757410" y="911646"/>
                </a:lnTo>
                <a:lnTo>
                  <a:pt x="793215" y="875841"/>
                </a:lnTo>
                <a:lnTo>
                  <a:pt x="782198" y="812494"/>
                </a:lnTo>
                <a:lnTo>
                  <a:pt x="757410" y="784952"/>
                </a:lnTo>
                <a:lnTo>
                  <a:pt x="762918" y="735376"/>
                </a:lnTo>
                <a:lnTo>
                  <a:pt x="707834" y="672029"/>
                </a:lnTo>
                <a:lnTo>
                  <a:pt x="699571" y="567369"/>
                </a:lnTo>
                <a:lnTo>
                  <a:pt x="672029" y="548089"/>
                </a:lnTo>
                <a:lnTo>
                  <a:pt x="638978" y="572877"/>
                </a:lnTo>
                <a:lnTo>
                  <a:pt x="572877" y="487497"/>
                </a:lnTo>
                <a:lnTo>
                  <a:pt x="564615" y="424150"/>
                </a:lnTo>
                <a:lnTo>
                  <a:pt x="515039" y="404870"/>
                </a:lnTo>
                <a:lnTo>
                  <a:pt x="550843" y="366311"/>
                </a:lnTo>
                <a:lnTo>
                  <a:pt x="553598" y="305718"/>
                </a:lnTo>
                <a:lnTo>
                  <a:pt x="534318" y="289193"/>
                </a:lnTo>
                <a:lnTo>
                  <a:pt x="545335" y="212075"/>
                </a:lnTo>
                <a:lnTo>
                  <a:pt x="470971" y="236863"/>
                </a:lnTo>
                <a:lnTo>
                  <a:pt x="413133" y="129448"/>
                </a:lnTo>
                <a:lnTo>
                  <a:pt x="457200" y="85381"/>
                </a:lnTo>
                <a:lnTo>
                  <a:pt x="446183" y="5509"/>
                </a:lnTo>
                <a:lnTo>
                  <a:pt x="275422" y="16526"/>
                </a:lnTo>
                <a:lnTo>
                  <a:pt x="236863" y="49576"/>
                </a:lnTo>
                <a:lnTo>
                  <a:pt x="11567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3" name="Freeform 31"/>
          <p:cNvSpPr/>
          <p:nvPr/>
        </p:nvSpPr>
        <p:spPr>
          <a:xfrm>
            <a:off x="4130640" y="836640"/>
            <a:ext cx="309600" cy="404640"/>
          </a:xfrm>
          <a:custGeom>
            <a:avLst/>
            <a:gdLst/>
            <a:ahLst/>
            <a:rect l="l" t="t" r="r" b="b"/>
            <a:pathLst>
              <a:path w="308473" h="404870">
                <a:moveTo>
                  <a:pt x="77118" y="63347"/>
                </a:moveTo>
                <a:lnTo>
                  <a:pt x="24788" y="41313"/>
                </a:lnTo>
                <a:lnTo>
                  <a:pt x="16526" y="123940"/>
                </a:lnTo>
                <a:lnTo>
                  <a:pt x="38559" y="151482"/>
                </a:lnTo>
                <a:lnTo>
                  <a:pt x="30297" y="192795"/>
                </a:lnTo>
                <a:lnTo>
                  <a:pt x="0" y="234108"/>
                </a:lnTo>
                <a:lnTo>
                  <a:pt x="38559" y="256142"/>
                </a:lnTo>
                <a:lnTo>
                  <a:pt x="55085" y="330506"/>
                </a:lnTo>
                <a:lnTo>
                  <a:pt x="112923" y="402116"/>
                </a:lnTo>
                <a:lnTo>
                  <a:pt x="156991" y="385590"/>
                </a:lnTo>
                <a:lnTo>
                  <a:pt x="190041" y="404870"/>
                </a:lnTo>
                <a:lnTo>
                  <a:pt x="217583" y="363557"/>
                </a:lnTo>
                <a:lnTo>
                  <a:pt x="239617" y="349785"/>
                </a:lnTo>
                <a:lnTo>
                  <a:pt x="225846" y="280930"/>
                </a:lnTo>
                <a:lnTo>
                  <a:pt x="300210" y="168007"/>
                </a:lnTo>
                <a:lnTo>
                  <a:pt x="308473" y="63347"/>
                </a:lnTo>
                <a:lnTo>
                  <a:pt x="192795" y="44067"/>
                </a:lnTo>
                <a:lnTo>
                  <a:pt x="137711" y="0"/>
                </a:lnTo>
                <a:lnTo>
                  <a:pt x="77118" y="63347"/>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4" name="Freeform 32"/>
          <p:cNvSpPr/>
          <p:nvPr/>
        </p:nvSpPr>
        <p:spPr>
          <a:xfrm>
            <a:off x="4822920" y="149400"/>
            <a:ext cx="896760" cy="861840"/>
          </a:xfrm>
          <a:custGeom>
            <a:avLst/>
            <a:gdLst/>
            <a:ahLst/>
            <a:rect l="l" t="t" r="r" b="b"/>
            <a:pathLst>
              <a:path w="897874" h="862070">
                <a:moveTo>
                  <a:pt x="0" y="0"/>
                </a:moveTo>
                <a:lnTo>
                  <a:pt x="8262" y="324997"/>
                </a:lnTo>
                <a:lnTo>
                  <a:pt x="68855" y="341523"/>
                </a:lnTo>
                <a:lnTo>
                  <a:pt x="115677" y="393853"/>
                </a:lnTo>
                <a:lnTo>
                  <a:pt x="267159" y="462708"/>
                </a:lnTo>
                <a:lnTo>
                  <a:pt x="404870" y="622453"/>
                </a:lnTo>
                <a:lnTo>
                  <a:pt x="493005" y="746392"/>
                </a:lnTo>
                <a:lnTo>
                  <a:pt x="592156" y="773935"/>
                </a:lnTo>
                <a:lnTo>
                  <a:pt x="707833" y="862070"/>
                </a:lnTo>
                <a:lnTo>
                  <a:pt x="754655" y="812494"/>
                </a:lnTo>
                <a:lnTo>
                  <a:pt x="751901" y="771180"/>
                </a:lnTo>
                <a:lnTo>
                  <a:pt x="870332" y="603173"/>
                </a:lnTo>
                <a:lnTo>
                  <a:pt x="897874" y="592156"/>
                </a:lnTo>
                <a:lnTo>
                  <a:pt x="806985" y="487496"/>
                </a:lnTo>
                <a:lnTo>
                  <a:pt x="765672" y="470971"/>
                </a:lnTo>
                <a:lnTo>
                  <a:pt x="729867" y="490250"/>
                </a:lnTo>
                <a:lnTo>
                  <a:pt x="685800" y="446183"/>
                </a:lnTo>
                <a:lnTo>
                  <a:pt x="633470" y="462708"/>
                </a:lnTo>
                <a:lnTo>
                  <a:pt x="495759" y="377327"/>
                </a:lnTo>
                <a:lnTo>
                  <a:pt x="481988" y="322243"/>
                </a:lnTo>
                <a:lnTo>
                  <a:pt x="327752" y="253388"/>
                </a:lnTo>
                <a:lnTo>
                  <a:pt x="272667" y="278176"/>
                </a:lnTo>
                <a:lnTo>
                  <a:pt x="0"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5" name="Freeform 33"/>
          <p:cNvSpPr/>
          <p:nvPr/>
        </p:nvSpPr>
        <p:spPr>
          <a:xfrm>
            <a:off x="4640400" y="482760"/>
            <a:ext cx="884160" cy="758520"/>
          </a:xfrm>
          <a:custGeom>
            <a:avLst/>
            <a:gdLst/>
            <a:ahLst/>
            <a:rect l="l" t="t" r="r" b="b"/>
            <a:pathLst>
              <a:path w="884104" h="760164">
                <a:moveTo>
                  <a:pt x="184533" y="0"/>
                </a:moveTo>
                <a:lnTo>
                  <a:pt x="0" y="291947"/>
                </a:lnTo>
                <a:lnTo>
                  <a:pt x="297456" y="291947"/>
                </a:lnTo>
                <a:lnTo>
                  <a:pt x="305718" y="738130"/>
                </a:lnTo>
                <a:lnTo>
                  <a:pt x="776690" y="760164"/>
                </a:lnTo>
                <a:lnTo>
                  <a:pt x="801478" y="707834"/>
                </a:lnTo>
                <a:lnTo>
                  <a:pt x="790461" y="661012"/>
                </a:lnTo>
                <a:lnTo>
                  <a:pt x="884104" y="531564"/>
                </a:lnTo>
                <a:lnTo>
                  <a:pt x="779444" y="440675"/>
                </a:lnTo>
                <a:lnTo>
                  <a:pt x="680292" y="418641"/>
                </a:lnTo>
                <a:lnTo>
                  <a:pt x="451692" y="118431"/>
                </a:lnTo>
                <a:lnTo>
                  <a:pt x="294702" y="57839"/>
                </a:lnTo>
                <a:lnTo>
                  <a:pt x="242372" y="2754"/>
                </a:lnTo>
                <a:lnTo>
                  <a:pt x="184533"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6" name="Freeform 34"/>
          <p:cNvSpPr/>
          <p:nvPr/>
        </p:nvSpPr>
        <p:spPr>
          <a:xfrm>
            <a:off x="4309920" y="771480"/>
            <a:ext cx="640080" cy="914400"/>
          </a:xfrm>
          <a:custGeom>
            <a:avLst/>
            <a:gdLst/>
            <a:ahLst/>
            <a:rect l="l" t="t" r="r" b="b"/>
            <a:pathLst>
              <a:path w="638979" h="914400">
                <a:moveTo>
                  <a:pt x="170762" y="0"/>
                </a:moveTo>
                <a:lnTo>
                  <a:pt x="115678" y="123939"/>
                </a:lnTo>
                <a:lnTo>
                  <a:pt x="118432" y="250633"/>
                </a:lnTo>
                <a:lnTo>
                  <a:pt x="46822" y="341523"/>
                </a:lnTo>
                <a:lnTo>
                  <a:pt x="55085" y="418641"/>
                </a:lnTo>
                <a:lnTo>
                  <a:pt x="8263" y="470971"/>
                </a:lnTo>
                <a:lnTo>
                  <a:pt x="0" y="575631"/>
                </a:lnTo>
                <a:lnTo>
                  <a:pt x="60593" y="630715"/>
                </a:lnTo>
                <a:lnTo>
                  <a:pt x="60593" y="691308"/>
                </a:lnTo>
                <a:lnTo>
                  <a:pt x="77118" y="732621"/>
                </a:lnTo>
                <a:lnTo>
                  <a:pt x="96398" y="779443"/>
                </a:lnTo>
                <a:lnTo>
                  <a:pt x="261651" y="790460"/>
                </a:lnTo>
                <a:lnTo>
                  <a:pt x="278176" y="779443"/>
                </a:lnTo>
                <a:lnTo>
                  <a:pt x="300210" y="812494"/>
                </a:lnTo>
                <a:lnTo>
                  <a:pt x="366311" y="812494"/>
                </a:lnTo>
                <a:lnTo>
                  <a:pt x="415887" y="812494"/>
                </a:lnTo>
                <a:lnTo>
                  <a:pt x="424150" y="837282"/>
                </a:lnTo>
                <a:lnTo>
                  <a:pt x="448938" y="842790"/>
                </a:lnTo>
                <a:lnTo>
                  <a:pt x="451692" y="903383"/>
                </a:lnTo>
                <a:lnTo>
                  <a:pt x="512285" y="914400"/>
                </a:lnTo>
                <a:lnTo>
                  <a:pt x="548090" y="903383"/>
                </a:lnTo>
                <a:lnTo>
                  <a:pt x="638979" y="437920"/>
                </a:lnTo>
                <a:lnTo>
                  <a:pt x="622453" y="0"/>
                </a:lnTo>
                <a:lnTo>
                  <a:pt x="170762"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7" name="Freeform 35"/>
          <p:cNvSpPr/>
          <p:nvPr/>
        </p:nvSpPr>
        <p:spPr>
          <a:xfrm>
            <a:off x="3525840" y="1195560"/>
            <a:ext cx="771480" cy="834840"/>
          </a:xfrm>
          <a:custGeom>
            <a:avLst/>
            <a:gdLst/>
            <a:ahLst/>
            <a:rect l="l" t="t" r="r" b="b"/>
            <a:pathLst>
              <a:path w="771181" h="834528">
                <a:moveTo>
                  <a:pt x="93644" y="24788"/>
                </a:moveTo>
                <a:lnTo>
                  <a:pt x="0" y="156990"/>
                </a:lnTo>
                <a:lnTo>
                  <a:pt x="57839" y="170761"/>
                </a:lnTo>
                <a:lnTo>
                  <a:pt x="132203" y="236863"/>
                </a:lnTo>
                <a:lnTo>
                  <a:pt x="137711" y="388344"/>
                </a:lnTo>
                <a:lnTo>
                  <a:pt x="187287" y="415887"/>
                </a:lnTo>
                <a:lnTo>
                  <a:pt x="228600" y="385590"/>
                </a:lnTo>
                <a:lnTo>
                  <a:pt x="446184" y="611436"/>
                </a:lnTo>
                <a:lnTo>
                  <a:pt x="457200" y="724359"/>
                </a:lnTo>
                <a:lnTo>
                  <a:pt x="512285" y="826265"/>
                </a:lnTo>
                <a:lnTo>
                  <a:pt x="674784" y="834528"/>
                </a:lnTo>
                <a:lnTo>
                  <a:pt x="710588" y="826265"/>
                </a:lnTo>
                <a:lnTo>
                  <a:pt x="707834" y="616944"/>
                </a:lnTo>
                <a:lnTo>
                  <a:pt x="771181" y="468217"/>
                </a:lnTo>
                <a:lnTo>
                  <a:pt x="707834" y="333260"/>
                </a:lnTo>
                <a:lnTo>
                  <a:pt x="575632" y="220337"/>
                </a:lnTo>
                <a:lnTo>
                  <a:pt x="589403" y="176270"/>
                </a:lnTo>
                <a:lnTo>
                  <a:pt x="534318" y="99152"/>
                </a:lnTo>
                <a:lnTo>
                  <a:pt x="470971" y="85381"/>
                </a:lnTo>
                <a:lnTo>
                  <a:pt x="443429" y="145973"/>
                </a:lnTo>
                <a:lnTo>
                  <a:pt x="308473" y="134957"/>
                </a:lnTo>
                <a:lnTo>
                  <a:pt x="291947" y="79872"/>
                </a:lnTo>
                <a:lnTo>
                  <a:pt x="245126" y="99152"/>
                </a:lnTo>
                <a:lnTo>
                  <a:pt x="203812" y="0"/>
                </a:lnTo>
                <a:lnTo>
                  <a:pt x="93644" y="2478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8" name="Freeform 36"/>
          <p:cNvSpPr/>
          <p:nvPr/>
        </p:nvSpPr>
        <p:spPr>
          <a:xfrm>
            <a:off x="3384720" y="1344600"/>
            <a:ext cx="647640" cy="839880"/>
          </a:xfrm>
          <a:custGeom>
            <a:avLst/>
            <a:gdLst/>
            <a:ahLst/>
            <a:rect l="l" t="t" r="r" b="b"/>
            <a:pathLst>
              <a:path w="647240" h="840036">
                <a:moveTo>
                  <a:pt x="140465" y="0"/>
                </a:moveTo>
                <a:lnTo>
                  <a:pt x="151481" y="55084"/>
                </a:lnTo>
                <a:lnTo>
                  <a:pt x="121185" y="85381"/>
                </a:lnTo>
                <a:lnTo>
                  <a:pt x="137710" y="148728"/>
                </a:lnTo>
                <a:lnTo>
                  <a:pt x="85380" y="179024"/>
                </a:lnTo>
                <a:lnTo>
                  <a:pt x="104660" y="278176"/>
                </a:lnTo>
                <a:lnTo>
                  <a:pt x="85380" y="302964"/>
                </a:lnTo>
                <a:lnTo>
                  <a:pt x="126694" y="344277"/>
                </a:lnTo>
                <a:lnTo>
                  <a:pt x="101906" y="399361"/>
                </a:lnTo>
                <a:lnTo>
                  <a:pt x="66101" y="385590"/>
                </a:lnTo>
                <a:lnTo>
                  <a:pt x="49575" y="437920"/>
                </a:lnTo>
                <a:lnTo>
                  <a:pt x="60592" y="459954"/>
                </a:lnTo>
                <a:lnTo>
                  <a:pt x="33050" y="479234"/>
                </a:lnTo>
                <a:lnTo>
                  <a:pt x="52330" y="531564"/>
                </a:lnTo>
                <a:lnTo>
                  <a:pt x="44067" y="556352"/>
                </a:lnTo>
                <a:lnTo>
                  <a:pt x="0" y="539826"/>
                </a:lnTo>
                <a:lnTo>
                  <a:pt x="2754" y="600419"/>
                </a:lnTo>
                <a:lnTo>
                  <a:pt x="24787" y="672029"/>
                </a:lnTo>
                <a:lnTo>
                  <a:pt x="74363" y="716096"/>
                </a:lnTo>
                <a:lnTo>
                  <a:pt x="57838" y="757409"/>
                </a:lnTo>
                <a:lnTo>
                  <a:pt x="107414" y="840036"/>
                </a:lnTo>
                <a:lnTo>
                  <a:pt x="151481" y="826265"/>
                </a:lnTo>
                <a:lnTo>
                  <a:pt x="195549" y="812494"/>
                </a:lnTo>
                <a:lnTo>
                  <a:pt x="201057" y="751901"/>
                </a:lnTo>
                <a:lnTo>
                  <a:pt x="278175" y="716096"/>
                </a:lnTo>
                <a:lnTo>
                  <a:pt x="341522" y="776689"/>
                </a:lnTo>
                <a:lnTo>
                  <a:pt x="448937" y="702325"/>
                </a:lnTo>
                <a:lnTo>
                  <a:pt x="473725" y="740884"/>
                </a:lnTo>
                <a:lnTo>
                  <a:pt x="517792" y="738130"/>
                </a:lnTo>
                <a:lnTo>
                  <a:pt x="567368" y="760164"/>
                </a:lnTo>
                <a:lnTo>
                  <a:pt x="559106" y="669275"/>
                </a:lnTo>
                <a:lnTo>
                  <a:pt x="625207" y="674783"/>
                </a:lnTo>
                <a:lnTo>
                  <a:pt x="647240" y="666520"/>
                </a:lnTo>
                <a:lnTo>
                  <a:pt x="592156" y="567369"/>
                </a:lnTo>
                <a:lnTo>
                  <a:pt x="581139" y="459954"/>
                </a:lnTo>
                <a:lnTo>
                  <a:pt x="358048" y="236862"/>
                </a:lnTo>
                <a:lnTo>
                  <a:pt x="316734" y="258896"/>
                </a:lnTo>
                <a:lnTo>
                  <a:pt x="286438" y="242371"/>
                </a:lnTo>
                <a:lnTo>
                  <a:pt x="272667" y="85381"/>
                </a:lnTo>
                <a:lnTo>
                  <a:pt x="203812" y="16525"/>
                </a:lnTo>
                <a:lnTo>
                  <a:pt x="140465"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9" name="Freeform 37"/>
          <p:cNvSpPr/>
          <p:nvPr/>
        </p:nvSpPr>
        <p:spPr>
          <a:xfrm>
            <a:off x="5268960" y="1060560"/>
            <a:ext cx="731880" cy="749160"/>
          </a:xfrm>
          <a:custGeom>
            <a:avLst/>
            <a:gdLst/>
            <a:ahLst/>
            <a:rect l="l" t="t" r="r" b="b"/>
            <a:pathLst>
              <a:path w="732622" h="749147">
                <a:moveTo>
                  <a:pt x="209320" y="16526"/>
                </a:moveTo>
                <a:lnTo>
                  <a:pt x="173516" y="90890"/>
                </a:lnTo>
                <a:lnTo>
                  <a:pt x="170761" y="140466"/>
                </a:lnTo>
                <a:lnTo>
                  <a:pt x="151482" y="168008"/>
                </a:lnTo>
                <a:lnTo>
                  <a:pt x="121185" y="225846"/>
                </a:lnTo>
                <a:lnTo>
                  <a:pt x="132202" y="275422"/>
                </a:lnTo>
                <a:lnTo>
                  <a:pt x="101906" y="308473"/>
                </a:lnTo>
                <a:lnTo>
                  <a:pt x="99152" y="352540"/>
                </a:lnTo>
                <a:lnTo>
                  <a:pt x="30296" y="418641"/>
                </a:lnTo>
                <a:lnTo>
                  <a:pt x="0" y="658258"/>
                </a:lnTo>
                <a:lnTo>
                  <a:pt x="88135" y="622454"/>
                </a:lnTo>
                <a:lnTo>
                  <a:pt x="192795" y="603174"/>
                </a:lnTo>
                <a:lnTo>
                  <a:pt x="228600" y="600420"/>
                </a:lnTo>
                <a:lnTo>
                  <a:pt x="319489" y="749147"/>
                </a:lnTo>
                <a:lnTo>
                  <a:pt x="360802" y="641733"/>
                </a:lnTo>
                <a:lnTo>
                  <a:pt x="435166" y="581140"/>
                </a:lnTo>
                <a:lnTo>
                  <a:pt x="413132" y="553598"/>
                </a:lnTo>
                <a:lnTo>
                  <a:pt x="479234" y="490251"/>
                </a:lnTo>
                <a:lnTo>
                  <a:pt x="520547" y="504022"/>
                </a:lnTo>
                <a:lnTo>
                  <a:pt x="559106" y="437921"/>
                </a:lnTo>
                <a:lnTo>
                  <a:pt x="616944" y="413133"/>
                </a:lnTo>
                <a:lnTo>
                  <a:pt x="644487" y="349786"/>
                </a:lnTo>
                <a:lnTo>
                  <a:pt x="732622" y="256143"/>
                </a:lnTo>
                <a:lnTo>
                  <a:pt x="691308" y="134957"/>
                </a:lnTo>
                <a:lnTo>
                  <a:pt x="705079" y="66102"/>
                </a:lnTo>
                <a:lnTo>
                  <a:pt x="630716" y="121186"/>
                </a:lnTo>
                <a:lnTo>
                  <a:pt x="578385" y="90890"/>
                </a:lnTo>
                <a:lnTo>
                  <a:pt x="553597" y="118432"/>
                </a:lnTo>
                <a:lnTo>
                  <a:pt x="454446" y="60593"/>
                </a:lnTo>
                <a:lnTo>
                  <a:pt x="319489" y="0"/>
                </a:lnTo>
                <a:lnTo>
                  <a:pt x="209320" y="16526"/>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0" name="Freeform 38"/>
          <p:cNvSpPr/>
          <p:nvPr/>
        </p:nvSpPr>
        <p:spPr>
          <a:xfrm>
            <a:off x="5969160" y="760320"/>
            <a:ext cx="436320" cy="542880"/>
          </a:xfrm>
          <a:custGeom>
            <a:avLst/>
            <a:gdLst/>
            <a:ahLst/>
            <a:rect l="l" t="t" r="r" b="b"/>
            <a:pathLst>
              <a:path w="437920" h="542581">
                <a:moveTo>
                  <a:pt x="2754" y="374573"/>
                </a:moveTo>
                <a:lnTo>
                  <a:pt x="57839" y="322243"/>
                </a:lnTo>
                <a:lnTo>
                  <a:pt x="217583" y="253388"/>
                </a:lnTo>
                <a:lnTo>
                  <a:pt x="261651" y="118431"/>
                </a:lnTo>
                <a:lnTo>
                  <a:pt x="253388" y="66101"/>
                </a:lnTo>
                <a:lnTo>
                  <a:pt x="261651" y="0"/>
                </a:lnTo>
                <a:lnTo>
                  <a:pt x="363557" y="8263"/>
                </a:lnTo>
                <a:lnTo>
                  <a:pt x="429658" y="96397"/>
                </a:lnTo>
                <a:lnTo>
                  <a:pt x="402116" y="121185"/>
                </a:lnTo>
                <a:lnTo>
                  <a:pt x="437920" y="225846"/>
                </a:lnTo>
                <a:lnTo>
                  <a:pt x="385590" y="333260"/>
                </a:lnTo>
                <a:lnTo>
                  <a:pt x="349785" y="363556"/>
                </a:lnTo>
                <a:lnTo>
                  <a:pt x="275422" y="404870"/>
                </a:lnTo>
                <a:lnTo>
                  <a:pt x="223092" y="459954"/>
                </a:lnTo>
                <a:lnTo>
                  <a:pt x="170761" y="459954"/>
                </a:lnTo>
                <a:lnTo>
                  <a:pt x="41313" y="542581"/>
                </a:lnTo>
                <a:lnTo>
                  <a:pt x="0" y="440675"/>
                </a:lnTo>
                <a:lnTo>
                  <a:pt x="2754" y="374573"/>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1" name="Freeform 39"/>
          <p:cNvSpPr/>
          <p:nvPr/>
        </p:nvSpPr>
        <p:spPr>
          <a:xfrm>
            <a:off x="5065560" y="1657440"/>
            <a:ext cx="559080" cy="796680"/>
          </a:xfrm>
          <a:custGeom>
            <a:avLst/>
            <a:gdLst/>
            <a:ahLst/>
            <a:rect l="l" t="t" r="r" b="b"/>
            <a:pathLst>
              <a:path w="559106" h="795968">
                <a:moveTo>
                  <a:pt x="203812" y="55084"/>
                </a:moveTo>
                <a:lnTo>
                  <a:pt x="159744" y="187286"/>
                </a:lnTo>
                <a:lnTo>
                  <a:pt x="99152" y="291947"/>
                </a:lnTo>
                <a:lnTo>
                  <a:pt x="46822" y="313980"/>
                </a:lnTo>
                <a:lnTo>
                  <a:pt x="0" y="448937"/>
                </a:lnTo>
                <a:lnTo>
                  <a:pt x="22034" y="561860"/>
                </a:lnTo>
                <a:lnTo>
                  <a:pt x="145973" y="707833"/>
                </a:lnTo>
                <a:lnTo>
                  <a:pt x="402115" y="795968"/>
                </a:lnTo>
                <a:cubicBezTo>
                  <a:pt x="403033" y="758327"/>
                  <a:pt x="403952" y="720686"/>
                  <a:pt x="404870" y="683045"/>
                </a:cubicBezTo>
                <a:lnTo>
                  <a:pt x="393853" y="638978"/>
                </a:lnTo>
                <a:lnTo>
                  <a:pt x="437920" y="583894"/>
                </a:lnTo>
                <a:lnTo>
                  <a:pt x="437920" y="481988"/>
                </a:lnTo>
                <a:lnTo>
                  <a:pt x="476479" y="429657"/>
                </a:lnTo>
                <a:lnTo>
                  <a:pt x="462708" y="349785"/>
                </a:lnTo>
                <a:lnTo>
                  <a:pt x="490250" y="324997"/>
                </a:lnTo>
                <a:lnTo>
                  <a:pt x="476479" y="272667"/>
                </a:lnTo>
                <a:lnTo>
                  <a:pt x="559106" y="236862"/>
                </a:lnTo>
                <a:lnTo>
                  <a:pt x="528809" y="195549"/>
                </a:lnTo>
                <a:lnTo>
                  <a:pt x="548089" y="168007"/>
                </a:lnTo>
                <a:lnTo>
                  <a:pt x="512284" y="134956"/>
                </a:lnTo>
                <a:lnTo>
                  <a:pt x="415887" y="0"/>
                </a:lnTo>
                <a:lnTo>
                  <a:pt x="203812" y="55084"/>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2" name="Freeform 40"/>
          <p:cNvSpPr/>
          <p:nvPr/>
        </p:nvSpPr>
        <p:spPr>
          <a:xfrm>
            <a:off x="4722840" y="1220760"/>
            <a:ext cx="685800" cy="1279440"/>
          </a:xfrm>
          <a:custGeom>
            <a:avLst/>
            <a:gdLst/>
            <a:ahLst/>
            <a:rect l="l" t="t" r="r" b="b"/>
            <a:pathLst>
              <a:path w="685800" h="1280711">
                <a:moveTo>
                  <a:pt x="223091" y="0"/>
                </a:moveTo>
                <a:lnTo>
                  <a:pt x="140465" y="451692"/>
                </a:lnTo>
                <a:lnTo>
                  <a:pt x="107414" y="468217"/>
                </a:lnTo>
                <a:lnTo>
                  <a:pt x="187287" y="586648"/>
                </a:lnTo>
                <a:lnTo>
                  <a:pt x="118431" y="762918"/>
                </a:lnTo>
                <a:lnTo>
                  <a:pt x="145973" y="795969"/>
                </a:lnTo>
                <a:lnTo>
                  <a:pt x="112923" y="820757"/>
                </a:lnTo>
                <a:lnTo>
                  <a:pt x="201058" y="991518"/>
                </a:lnTo>
                <a:lnTo>
                  <a:pt x="0" y="1264186"/>
                </a:lnTo>
                <a:lnTo>
                  <a:pt x="212075" y="1280711"/>
                </a:lnTo>
                <a:lnTo>
                  <a:pt x="366311" y="1096178"/>
                </a:lnTo>
                <a:lnTo>
                  <a:pt x="415887" y="1098933"/>
                </a:lnTo>
                <a:lnTo>
                  <a:pt x="443429" y="1096178"/>
                </a:lnTo>
                <a:lnTo>
                  <a:pt x="355294" y="1002535"/>
                </a:lnTo>
                <a:lnTo>
                  <a:pt x="344277" y="892366"/>
                </a:lnTo>
                <a:lnTo>
                  <a:pt x="385590" y="743639"/>
                </a:lnTo>
                <a:lnTo>
                  <a:pt x="448937" y="729868"/>
                </a:lnTo>
                <a:lnTo>
                  <a:pt x="550843" y="490251"/>
                </a:lnTo>
                <a:lnTo>
                  <a:pt x="583894" y="245125"/>
                </a:lnTo>
                <a:lnTo>
                  <a:pt x="638978" y="201058"/>
                </a:lnTo>
                <a:lnTo>
                  <a:pt x="647241" y="148728"/>
                </a:lnTo>
                <a:lnTo>
                  <a:pt x="677537" y="99152"/>
                </a:lnTo>
                <a:lnTo>
                  <a:pt x="666520" y="55084"/>
                </a:lnTo>
                <a:lnTo>
                  <a:pt x="685800" y="16525"/>
                </a:lnTo>
                <a:lnTo>
                  <a:pt x="223091"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3" name="Freeform 41"/>
          <p:cNvSpPr/>
          <p:nvPr/>
        </p:nvSpPr>
        <p:spPr>
          <a:xfrm>
            <a:off x="4230720" y="1542960"/>
            <a:ext cx="693720" cy="1092240"/>
          </a:xfrm>
          <a:custGeom>
            <a:avLst/>
            <a:gdLst/>
            <a:ahLst/>
            <a:rect l="l" t="t" r="r" b="b"/>
            <a:pathLst>
              <a:path w="694063" h="1093425">
                <a:moveTo>
                  <a:pt x="151482" y="110169"/>
                </a:moveTo>
                <a:lnTo>
                  <a:pt x="79872" y="104661"/>
                </a:lnTo>
                <a:lnTo>
                  <a:pt x="0" y="272668"/>
                </a:lnTo>
                <a:lnTo>
                  <a:pt x="0" y="481988"/>
                </a:lnTo>
                <a:lnTo>
                  <a:pt x="57839" y="506776"/>
                </a:lnTo>
                <a:lnTo>
                  <a:pt x="96398" y="556352"/>
                </a:lnTo>
                <a:lnTo>
                  <a:pt x="143219" y="570123"/>
                </a:lnTo>
                <a:lnTo>
                  <a:pt x="143219" y="638979"/>
                </a:lnTo>
                <a:lnTo>
                  <a:pt x="104660" y="754656"/>
                </a:lnTo>
                <a:lnTo>
                  <a:pt x="121186" y="1093425"/>
                </a:lnTo>
                <a:lnTo>
                  <a:pt x="426904" y="1076899"/>
                </a:lnTo>
                <a:lnTo>
                  <a:pt x="421395" y="950205"/>
                </a:lnTo>
                <a:lnTo>
                  <a:pt x="501268" y="944697"/>
                </a:lnTo>
                <a:lnTo>
                  <a:pt x="694063" y="663767"/>
                </a:lnTo>
                <a:lnTo>
                  <a:pt x="611436" y="501268"/>
                </a:lnTo>
                <a:lnTo>
                  <a:pt x="638978" y="465463"/>
                </a:lnTo>
                <a:lnTo>
                  <a:pt x="608682" y="443429"/>
                </a:lnTo>
                <a:lnTo>
                  <a:pt x="685800" y="258897"/>
                </a:lnTo>
                <a:lnTo>
                  <a:pt x="600419" y="137711"/>
                </a:lnTo>
                <a:lnTo>
                  <a:pt x="539827" y="126694"/>
                </a:lnTo>
                <a:lnTo>
                  <a:pt x="520547" y="68856"/>
                </a:lnTo>
                <a:lnTo>
                  <a:pt x="509530" y="55085"/>
                </a:lnTo>
                <a:lnTo>
                  <a:pt x="493005" y="35805"/>
                </a:lnTo>
                <a:lnTo>
                  <a:pt x="380082" y="44068"/>
                </a:lnTo>
                <a:lnTo>
                  <a:pt x="355294" y="8263"/>
                </a:lnTo>
                <a:lnTo>
                  <a:pt x="330506" y="27543"/>
                </a:lnTo>
                <a:lnTo>
                  <a:pt x="170762" y="0"/>
                </a:lnTo>
                <a:lnTo>
                  <a:pt x="134957" y="38559"/>
                </a:lnTo>
                <a:lnTo>
                  <a:pt x="151482" y="11016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4" name="Freeform 45"/>
          <p:cNvSpPr/>
          <p:nvPr/>
        </p:nvSpPr>
        <p:spPr>
          <a:xfrm>
            <a:off x="3941640" y="2011320"/>
            <a:ext cx="435240" cy="809640"/>
          </a:xfrm>
          <a:custGeom>
            <a:avLst/>
            <a:gdLst/>
            <a:ahLst/>
            <a:rect l="l" t="t" r="r" b="b"/>
            <a:pathLst>
              <a:path w="435167" h="809740">
                <a:moveTo>
                  <a:pt x="0" y="5509"/>
                </a:moveTo>
                <a:cubicBezTo>
                  <a:pt x="918" y="34887"/>
                  <a:pt x="1837" y="64266"/>
                  <a:pt x="2755" y="93644"/>
                </a:cubicBezTo>
                <a:lnTo>
                  <a:pt x="44068" y="181779"/>
                </a:lnTo>
                <a:lnTo>
                  <a:pt x="27543" y="209321"/>
                </a:lnTo>
                <a:lnTo>
                  <a:pt x="38559" y="308473"/>
                </a:lnTo>
                <a:lnTo>
                  <a:pt x="145974" y="421395"/>
                </a:lnTo>
                <a:lnTo>
                  <a:pt x="118432" y="465463"/>
                </a:lnTo>
                <a:lnTo>
                  <a:pt x="143220" y="515039"/>
                </a:lnTo>
                <a:lnTo>
                  <a:pt x="129449" y="556352"/>
                </a:lnTo>
                <a:lnTo>
                  <a:pt x="170762" y="597665"/>
                </a:lnTo>
                <a:lnTo>
                  <a:pt x="173516" y="644487"/>
                </a:lnTo>
                <a:lnTo>
                  <a:pt x="184533" y="696817"/>
                </a:lnTo>
                <a:lnTo>
                  <a:pt x="143220" y="809740"/>
                </a:lnTo>
                <a:lnTo>
                  <a:pt x="410379" y="804232"/>
                </a:lnTo>
                <a:lnTo>
                  <a:pt x="396608" y="291947"/>
                </a:lnTo>
                <a:lnTo>
                  <a:pt x="432412" y="165253"/>
                </a:lnTo>
                <a:lnTo>
                  <a:pt x="435167" y="107415"/>
                </a:lnTo>
                <a:lnTo>
                  <a:pt x="377328" y="88135"/>
                </a:lnTo>
                <a:lnTo>
                  <a:pt x="341523" y="33051"/>
                </a:lnTo>
                <a:lnTo>
                  <a:pt x="291947" y="5509"/>
                </a:lnTo>
                <a:lnTo>
                  <a:pt x="215743" y="14593"/>
                </a:lnTo>
                <a:lnTo>
                  <a:pt x="88135" y="0"/>
                </a:lnTo>
                <a:lnTo>
                  <a:pt x="0" y="550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5" name="Freeform 57"/>
          <p:cNvSpPr/>
          <p:nvPr/>
        </p:nvSpPr>
        <p:spPr>
          <a:xfrm>
            <a:off x="3459240" y="2043000"/>
            <a:ext cx="671400" cy="1116000"/>
          </a:xfrm>
          <a:custGeom>
            <a:avLst/>
            <a:gdLst/>
            <a:ahLst/>
            <a:rect l="l" t="t" r="r" b="b"/>
            <a:pathLst>
              <a:path w="672029" h="1115458">
                <a:moveTo>
                  <a:pt x="27543" y="143219"/>
                </a:moveTo>
                <a:lnTo>
                  <a:pt x="55085" y="236863"/>
                </a:lnTo>
                <a:lnTo>
                  <a:pt x="46822" y="261651"/>
                </a:lnTo>
                <a:lnTo>
                  <a:pt x="55085" y="297455"/>
                </a:lnTo>
                <a:lnTo>
                  <a:pt x="101906" y="275422"/>
                </a:lnTo>
                <a:lnTo>
                  <a:pt x="118432" y="324998"/>
                </a:lnTo>
                <a:lnTo>
                  <a:pt x="99152" y="358048"/>
                </a:lnTo>
                <a:lnTo>
                  <a:pt x="115677" y="473725"/>
                </a:lnTo>
                <a:lnTo>
                  <a:pt x="85381" y="479234"/>
                </a:lnTo>
                <a:lnTo>
                  <a:pt x="19280" y="550843"/>
                </a:lnTo>
                <a:lnTo>
                  <a:pt x="38559" y="630716"/>
                </a:lnTo>
                <a:lnTo>
                  <a:pt x="0" y="677537"/>
                </a:lnTo>
                <a:lnTo>
                  <a:pt x="44068" y="751901"/>
                </a:lnTo>
                <a:lnTo>
                  <a:pt x="33051" y="806985"/>
                </a:lnTo>
                <a:lnTo>
                  <a:pt x="66102" y="848299"/>
                </a:lnTo>
                <a:lnTo>
                  <a:pt x="49576" y="870332"/>
                </a:lnTo>
                <a:lnTo>
                  <a:pt x="126694" y="955713"/>
                </a:lnTo>
                <a:lnTo>
                  <a:pt x="179024" y="1071390"/>
                </a:lnTo>
                <a:lnTo>
                  <a:pt x="242371" y="1030077"/>
                </a:lnTo>
                <a:lnTo>
                  <a:pt x="300210" y="1071390"/>
                </a:lnTo>
                <a:lnTo>
                  <a:pt x="355294" y="1071390"/>
                </a:lnTo>
                <a:lnTo>
                  <a:pt x="374574" y="1115458"/>
                </a:lnTo>
                <a:lnTo>
                  <a:pt x="410379" y="1109949"/>
                </a:lnTo>
                <a:lnTo>
                  <a:pt x="391099" y="804231"/>
                </a:lnTo>
                <a:lnTo>
                  <a:pt x="641733" y="776689"/>
                </a:lnTo>
                <a:lnTo>
                  <a:pt x="672029" y="658258"/>
                </a:lnTo>
                <a:lnTo>
                  <a:pt x="647241" y="550843"/>
                </a:lnTo>
                <a:lnTo>
                  <a:pt x="614191" y="534318"/>
                </a:lnTo>
                <a:lnTo>
                  <a:pt x="622453" y="468217"/>
                </a:lnTo>
                <a:lnTo>
                  <a:pt x="600420" y="426904"/>
                </a:lnTo>
                <a:lnTo>
                  <a:pt x="625208" y="380082"/>
                </a:lnTo>
                <a:lnTo>
                  <a:pt x="517793" y="267159"/>
                </a:lnTo>
                <a:lnTo>
                  <a:pt x="509531" y="173516"/>
                </a:lnTo>
                <a:lnTo>
                  <a:pt x="520547" y="134957"/>
                </a:lnTo>
                <a:lnTo>
                  <a:pt x="484743" y="38559"/>
                </a:lnTo>
                <a:lnTo>
                  <a:pt x="404870" y="41313"/>
                </a:lnTo>
                <a:lnTo>
                  <a:pt x="374574" y="0"/>
                </a:lnTo>
                <a:lnTo>
                  <a:pt x="267159" y="77118"/>
                </a:lnTo>
                <a:lnTo>
                  <a:pt x="201058" y="19279"/>
                </a:lnTo>
                <a:lnTo>
                  <a:pt x="121186" y="52330"/>
                </a:lnTo>
                <a:lnTo>
                  <a:pt x="112923" y="110169"/>
                </a:lnTo>
                <a:lnTo>
                  <a:pt x="27543" y="14321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6" name="Freeform 58"/>
          <p:cNvSpPr/>
          <p:nvPr/>
        </p:nvSpPr>
        <p:spPr>
          <a:xfrm>
            <a:off x="3321000" y="2851200"/>
            <a:ext cx="557280" cy="1065240"/>
          </a:xfrm>
          <a:custGeom>
            <a:avLst/>
            <a:gdLst/>
            <a:ahLst/>
            <a:rect l="l" t="t" r="r" b="b"/>
            <a:pathLst>
              <a:path w="556351" h="1065882">
                <a:moveTo>
                  <a:pt x="173515" y="44068"/>
                </a:moveTo>
                <a:lnTo>
                  <a:pt x="143219" y="0"/>
                </a:lnTo>
                <a:lnTo>
                  <a:pt x="123939" y="79873"/>
                </a:lnTo>
                <a:lnTo>
                  <a:pt x="82626" y="110169"/>
                </a:lnTo>
                <a:lnTo>
                  <a:pt x="90889" y="145974"/>
                </a:lnTo>
                <a:lnTo>
                  <a:pt x="71609" y="179025"/>
                </a:lnTo>
                <a:lnTo>
                  <a:pt x="68855" y="245126"/>
                </a:lnTo>
                <a:lnTo>
                  <a:pt x="68855" y="297456"/>
                </a:lnTo>
                <a:lnTo>
                  <a:pt x="49575" y="360803"/>
                </a:lnTo>
                <a:lnTo>
                  <a:pt x="112922" y="429658"/>
                </a:lnTo>
                <a:lnTo>
                  <a:pt x="96397" y="454446"/>
                </a:lnTo>
                <a:lnTo>
                  <a:pt x="145973" y="523302"/>
                </a:lnTo>
                <a:lnTo>
                  <a:pt x="145973" y="583894"/>
                </a:lnTo>
                <a:lnTo>
                  <a:pt x="90889" y="622453"/>
                </a:lnTo>
                <a:lnTo>
                  <a:pt x="88134" y="691309"/>
                </a:lnTo>
                <a:lnTo>
                  <a:pt x="60592" y="729868"/>
                </a:lnTo>
                <a:lnTo>
                  <a:pt x="57838" y="760164"/>
                </a:lnTo>
                <a:lnTo>
                  <a:pt x="24787" y="762919"/>
                </a:lnTo>
                <a:lnTo>
                  <a:pt x="49575" y="818003"/>
                </a:lnTo>
                <a:lnTo>
                  <a:pt x="57838" y="840037"/>
                </a:lnTo>
                <a:lnTo>
                  <a:pt x="0" y="878596"/>
                </a:lnTo>
                <a:lnTo>
                  <a:pt x="46821" y="911646"/>
                </a:lnTo>
                <a:lnTo>
                  <a:pt x="24787" y="969485"/>
                </a:lnTo>
                <a:lnTo>
                  <a:pt x="44067" y="1065882"/>
                </a:lnTo>
                <a:lnTo>
                  <a:pt x="110168" y="1057620"/>
                </a:lnTo>
                <a:lnTo>
                  <a:pt x="134956" y="1065882"/>
                </a:lnTo>
                <a:lnTo>
                  <a:pt x="187286" y="1013552"/>
                </a:lnTo>
                <a:lnTo>
                  <a:pt x="173515" y="955714"/>
                </a:lnTo>
                <a:lnTo>
                  <a:pt x="228600" y="908892"/>
                </a:lnTo>
                <a:lnTo>
                  <a:pt x="253387" y="933680"/>
                </a:lnTo>
                <a:lnTo>
                  <a:pt x="305718" y="875841"/>
                </a:lnTo>
                <a:lnTo>
                  <a:pt x="313980" y="806986"/>
                </a:lnTo>
                <a:lnTo>
                  <a:pt x="421395" y="760164"/>
                </a:lnTo>
                <a:lnTo>
                  <a:pt x="481987" y="669275"/>
                </a:lnTo>
                <a:lnTo>
                  <a:pt x="556351" y="638979"/>
                </a:lnTo>
                <a:lnTo>
                  <a:pt x="548089" y="305719"/>
                </a:lnTo>
                <a:lnTo>
                  <a:pt x="509530" y="308473"/>
                </a:lnTo>
                <a:lnTo>
                  <a:pt x="484742" y="261651"/>
                </a:lnTo>
                <a:lnTo>
                  <a:pt x="432412" y="267159"/>
                </a:lnTo>
                <a:lnTo>
                  <a:pt x="385590" y="228600"/>
                </a:lnTo>
                <a:lnTo>
                  <a:pt x="319489" y="264405"/>
                </a:lnTo>
                <a:lnTo>
                  <a:pt x="258896" y="134957"/>
                </a:lnTo>
                <a:lnTo>
                  <a:pt x="173515" y="4406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7" name="Freeform 59"/>
          <p:cNvSpPr/>
          <p:nvPr/>
        </p:nvSpPr>
        <p:spPr>
          <a:xfrm>
            <a:off x="3849840" y="2608200"/>
            <a:ext cx="807840" cy="865080"/>
          </a:xfrm>
          <a:custGeom>
            <a:avLst/>
            <a:gdLst/>
            <a:ahLst/>
            <a:rect l="l" t="t" r="r" b="b"/>
            <a:pathLst>
              <a:path w="806986" h="864824">
                <a:moveTo>
                  <a:pt x="0" y="242371"/>
                </a:moveTo>
                <a:lnTo>
                  <a:pt x="8263" y="537073"/>
                </a:lnTo>
                <a:lnTo>
                  <a:pt x="66101" y="542581"/>
                </a:lnTo>
                <a:lnTo>
                  <a:pt x="104660" y="581140"/>
                </a:lnTo>
                <a:lnTo>
                  <a:pt x="77118" y="622453"/>
                </a:lnTo>
                <a:lnTo>
                  <a:pt x="88135" y="652750"/>
                </a:lnTo>
                <a:lnTo>
                  <a:pt x="129448" y="652750"/>
                </a:lnTo>
                <a:lnTo>
                  <a:pt x="170762" y="616945"/>
                </a:lnTo>
                <a:lnTo>
                  <a:pt x="247880" y="721605"/>
                </a:lnTo>
                <a:lnTo>
                  <a:pt x="300210" y="743639"/>
                </a:lnTo>
                <a:lnTo>
                  <a:pt x="316735" y="784952"/>
                </a:lnTo>
                <a:lnTo>
                  <a:pt x="388345" y="784952"/>
                </a:lnTo>
                <a:lnTo>
                  <a:pt x="407624" y="765673"/>
                </a:lnTo>
                <a:lnTo>
                  <a:pt x="443429" y="793215"/>
                </a:lnTo>
                <a:lnTo>
                  <a:pt x="534318" y="768427"/>
                </a:lnTo>
                <a:lnTo>
                  <a:pt x="559106" y="790461"/>
                </a:lnTo>
                <a:lnTo>
                  <a:pt x="652750" y="787706"/>
                </a:lnTo>
                <a:lnTo>
                  <a:pt x="661012" y="823511"/>
                </a:lnTo>
                <a:lnTo>
                  <a:pt x="782198" y="864824"/>
                </a:lnTo>
                <a:lnTo>
                  <a:pt x="806986" y="0"/>
                </a:lnTo>
                <a:lnTo>
                  <a:pt x="493005" y="24788"/>
                </a:lnTo>
                <a:lnTo>
                  <a:pt x="506776" y="203812"/>
                </a:lnTo>
                <a:lnTo>
                  <a:pt x="261651" y="206567"/>
                </a:lnTo>
                <a:lnTo>
                  <a:pt x="0" y="242371"/>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8" name="Freeform 60"/>
          <p:cNvSpPr/>
          <p:nvPr/>
        </p:nvSpPr>
        <p:spPr>
          <a:xfrm>
            <a:off x="4632480" y="2316240"/>
            <a:ext cx="1096920" cy="1512720"/>
          </a:xfrm>
          <a:custGeom>
            <a:avLst/>
            <a:gdLst/>
            <a:ahLst/>
            <a:rect l="l" t="t" r="r" b="b"/>
            <a:pathLst>
              <a:path w="1096178" h="1512065">
                <a:moveTo>
                  <a:pt x="829019" y="143220"/>
                </a:moveTo>
                <a:lnTo>
                  <a:pt x="575631" y="55085"/>
                </a:lnTo>
                <a:lnTo>
                  <a:pt x="539826" y="0"/>
                </a:lnTo>
                <a:lnTo>
                  <a:pt x="457200" y="2755"/>
                </a:lnTo>
                <a:lnTo>
                  <a:pt x="297455" y="190041"/>
                </a:lnTo>
                <a:lnTo>
                  <a:pt x="110168" y="162499"/>
                </a:lnTo>
                <a:lnTo>
                  <a:pt x="24788" y="179024"/>
                </a:lnTo>
                <a:lnTo>
                  <a:pt x="19279" y="302964"/>
                </a:lnTo>
                <a:lnTo>
                  <a:pt x="0" y="1445964"/>
                </a:lnTo>
                <a:lnTo>
                  <a:pt x="55084" y="1459735"/>
                </a:lnTo>
                <a:lnTo>
                  <a:pt x="126694" y="1512065"/>
                </a:lnTo>
                <a:lnTo>
                  <a:pt x="165253" y="1454227"/>
                </a:lnTo>
                <a:lnTo>
                  <a:pt x="140465" y="1385371"/>
                </a:lnTo>
                <a:lnTo>
                  <a:pt x="154236" y="1258677"/>
                </a:lnTo>
                <a:lnTo>
                  <a:pt x="206566" y="1275203"/>
                </a:lnTo>
                <a:lnTo>
                  <a:pt x="203812" y="1217364"/>
                </a:lnTo>
                <a:lnTo>
                  <a:pt x="165253" y="1143000"/>
                </a:lnTo>
                <a:lnTo>
                  <a:pt x="140465" y="1098933"/>
                </a:lnTo>
                <a:lnTo>
                  <a:pt x="148727" y="1046603"/>
                </a:lnTo>
                <a:lnTo>
                  <a:pt x="209320" y="1087916"/>
                </a:lnTo>
                <a:lnTo>
                  <a:pt x="283684" y="1104441"/>
                </a:lnTo>
                <a:lnTo>
                  <a:pt x="402115" y="1098933"/>
                </a:lnTo>
                <a:lnTo>
                  <a:pt x="652749" y="1054865"/>
                </a:lnTo>
                <a:lnTo>
                  <a:pt x="917154" y="969485"/>
                </a:lnTo>
                <a:lnTo>
                  <a:pt x="936434" y="903384"/>
                </a:lnTo>
                <a:lnTo>
                  <a:pt x="1096178" y="677538"/>
                </a:lnTo>
                <a:lnTo>
                  <a:pt x="1090670" y="578386"/>
                </a:lnTo>
                <a:lnTo>
                  <a:pt x="1052111" y="614191"/>
                </a:lnTo>
                <a:lnTo>
                  <a:pt x="966730" y="545335"/>
                </a:lnTo>
                <a:lnTo>
                  <a:pt x="986009" y="440675"/>
                </a:lnTo>
                <a:lnTo>
                  <a:pt x="1032831" y="391099"/>
                </a:lnTo>
                <a:lnTo>
                  <a:pt x="994272" y="338769"/>
                </a:lnTo>
                <a:lnTo>
                  <a:pt x="862070" y="267159"/>
                </a:lnTo>
                <a:lnTo>
                  <a:pt x="784952" y="192796"/>
                </a:lnTo>
                <a:lnTo>
                  <a:pt x="829019" y="14322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9" name="Freeform 61"/>
          <p:cNvSpPr/>
          <p:nvPr/>
        </p:nvSpPr>
        <p:spPr>
          <a:xfrm>
            <a:off x="3351240" y="3151080"/>
            <a:ext cx="1388880" cy="925560"/>
          </a:xfrm>
          <a:custGeom>
            <a:avLst/>
            <a:gdLst/>
            <a:ahLst/>
            <a:rect l="l" t="t" r="r" b="b"/>
            <a:pathLst>
              <a:path w="1388125" h="925417">
                <a:moveTo>
                  <a:pt x="512284" y="0"/>
                </a:moveTo>
                <a:lnTo>
                  <a:pt x="526055" y="344277"/>
                </a:lnTo>
                <a:lnTo>
                  <a:pt x="443429" y="371819"/>
                </a:lnTo>
                <a:lnTo>
                  <a:pt x="391099" y="468217"/>
                </a:lnTo>
                <a:lnTo>
                  <a:pt x="283684" y="506776"/>
                </a:lnTo>
                <a:lnTo>
                  <a:pt x="278176" y="578386"/>
                </a:lnTo>
                <a:lnTo>
                  <a:pt x="220337" y="636224"/>
                </a:lnTo>
                <a:lnTo>
                  <a:pt x="192795" y="616945"/>
                </a:lnTo>
                <a:lnTo>
                  <a:pt x="134957" y="658258"/>
                </a:lnTo>
                <a:lnTo>
                  <a:pt x="154236" y="710588"/>
                </a:lnTo>
                <a:lnTo>
                  <a:pt x="90889" y="765672"/>
                </a:lnTo>
                <a:lnTo>
                  <a:pt x="66101" y="760164"/>
                </a:lnTo>
                <a:lnTo>
                  <a:pt x="8263" y="768427"/>
                </a:lnTo>
                <a:lnTo>
                  <a:pt x="0" y="812494"/>
                </a:lnTo>
                <a:lnTo>
                  <a:pt x="30296" y="834528"/>
                </a:lnTo>
                <a:lnTo>
                  <a:pt x="19279" y="892366"/>
                </a:lnTo>
                <a:lnTo>
                  <a:pt x="63347" y="925417"/>
                </a:lnTo>
                <a:lnTo>
                  <a:pt x="1030077" y="864824"/>
                </a:lnTo>
                <a:lnTo>
                  <a:pt x="1049357" y="815248"/>
                </a:lnTo>
                <a:lnTo>
                  <a:pt x="1019060" y="710588"/>
                </a:lnTo>
                <a:lnTo>
                  <a:pt x="1010798" y="658258"/>
                </a:lnTo>
                <a:lnTo>
                  <a:pt x="1063128" y="616945"/>
                </a:lnTo>
                <a:lnTo>
                  <a:pt x="1090670" y="647241"/>
                </a:lnTo>
                <a:lnTo>
                  <a:pt x="1206347" y="688554"/>
                </a:lnTo>
                <a:lnTo>
                  <a:pt x="1308253" y="699571"/>
                </a:lnTo>
                <a:lnTo>
                  <a:pt x="1388125" y="680292"/>
                </a:lnTo>
                <a:lnTo>
                  <a:pt x="1366091" y="638978"/>
                </a:lnTo>
                <a:lnTo>
                  <a:pt x="1311007" y="616945"/>
                </a:lnTo>
                <a:lnTo>
                  <a:pt x="1286219" y="614190"/>
                </a:lnTo>
                <a:lnTo>
                  <a:pt x="1280711" y="319489"/>
                </a:lnTo>
                <a:lnTo>
                  <a:pt x="1151263" y="278176"/>
                </a:lnTo>
                <a:lnTo>
                  <a:pt x="1148508" y="245125"/>
                </a:lnTo>
                <a:lnTo>
                  <a:pt x="1057619" y="253388"/>
                </a:lnTo>
                <a:lnTo>
                  <a:pt x="1032831" y="228600"/>
                </a:lnTo>
                <a:lnTo>
                  <a:pt x="917154" y="253388"/>
                </a:lnTo>
                <a:lnTo>
                  <a:pt x="895120" y="220337"/>
                </a:lnTo>
                <a:lnTo>
                  <a:pt x="881349" y="242371"/>
                </a:lnTo>
                <a:lnTo>
                  <a:pt x="806985" y="239617"/>
                </a:lnTo>
                <a:lnTo>
                  <a:pt x="776689" y="198304"/>
                </a:lnTo>
                <a:lnTo>
                  <a:pt x="740884" y="181778"/>
                </a:lnTo>
                <a:lnTo>
                  <a:pt x="658258" y="74364"/>
                </a:lnTo>
                <a:lnTo>
                  <a:pt x="611436" y="107415"/>
                </a:lnTo>
                <a:lnTo>
                  <a:pt x="578385" y="90889"/>
                </a:lnTo>
                <a:lnTo>
                  <a:pt x="600419" y="38559"/>
                </a:lnTo>
                <a:lnTo>
                  <a:pt x="567369" y="0"/>
                </a:lnTo>
                <a:lnTo>
                  <a:pt x="512284"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0" name="Freeform 62"/>
          <p:cNvSpPr/>
          <p:nvPr/>
        </p:nvSpPr>
        <p:spPr>
          <a:xfrm>
            <a:off x="3324240" y="4010040"/>
            <a:ext cx="1157400" cy="869760"/>
          </a:xfrm>
          <a:custGeom>
            <a:avLst/>
            <a:gdLst/>
            <a:ahLst/>
            <a:rect l="l" t="t" r="r" b="b"/>
            <a:pathLst>
              <a:path w="1156771" h="870332">
                <a:moveTo>
                  <a:pt x="85380" y="68855"/>
                </a:moveTo>
                <a:lnTo>
                  <a:pt x="11017" y="104660"/>
                </a:lnTo>
                <a:lnTo>
                  <a:pt x="44067" y="190041"/>
                </a:lnTo>
                <a:lnTo>
                  <a:pt x="0" y="234108"/>
                </a:lnTo>
                <a:lnTo>
                  <a:pt x="63347" y="267159"/>
                </a:lnTo>
                <a:lnTo>
                  <a:pt x="68855" y="294701"/>
                </a:lnTo>
                <a:lnTo>
                  <a:pt x="101906" y="316735"/>
                </a:lnTo>
                <a:lnTo>
                  <a:pt x="74364" y="347031"/>
                </a:lnTo>
                <a:lnTo>
                  <a:pt x="126694" y="418641"/>
                </a:lnTo>
                <a:lnTo>
                  <a:pt x="99152" y="451691"/>
                </a:lnTo>
                <a:lnTo>
                  <a:pt x="99152" y="537072"/>
                </a:lnTo>
                <a:lnTo>
                  <a:pt x="123940" y="553597"/>
                </a:lnTo>
                <a:lnTo>
                  <a:pt x="187287" y="553597"/>
                </a:lnTo>
                <a:lnTo>
                  <a:pt x="234108" y="570123"/>
                </a:lnTo>
                <a:lnTo>
                  <a:pt x="198303" y="622453"/>
                </a:lnTo>
                <a:lnTo>
                  <a:pt x="170761" y="611436"/>
                </a:lnTo>
                <a:lnTo>
                  <a:pt x="148727" y="627961"/>
                </a:lnTo>
                <a:lnTo>
                  <a:pt x="99152" y="614190"/>
                </a:lnTo>
                <a:lnTo>
                  <a:pt x="66101" y="638978"/>
                </a:lnTo>
                <a:lnTo>
                  <a:pt x="110168" y="666520"/>
                </a:lnTo>
                <a:lnTo>
                  <a:pt x="176270" y="672029"/>
                </a:lnTo>
                <a:lnTo>
                  <a:pt x="206566" y="735376"/>
                </a:lnTo>
                <a:lnTo>
                  <a:pt x="176270" y="773935"/>
                </a:lnTo>
                <a:lnTo>
                  <a:pt x="148727" y="776689"/>
                </a:lnTo>
                <a:lnTo>
                  <a:pt x="137711" y="823511"/>
                </a:lnTo>
                <a:lnTo>
                  <a:pt x="190041" y="870332"/>
                </a:lnTo>
                <a:lnTo>
                  <a:pt x="732621" y="831773"/>
                </a:lnTo>
                <a:lnTo>
                  <a:pt x="826265" y="663766"/>
                </a:lnTo>
                <a:lnTo>
                  <a:pt x="867578" y="655503"/>
                </a:lnTo>
                <a:lnTo>
                  <a:pt x="873087" y="614190"/>
                </a:lnTo>
                <a:lnTo>
                  <a:pt x="922662" y="594911"/>
                </a:lnTo>
                <a:lnTo>
                  <a:pt x="991518" y="630715"/>
                </a:lnTo>
                <a:lnTo>
                  <a:pt x="1019060" y="594911"/>
                </a:lnTo>
                <a:lnTo>
                  <a:pt x="983255" y="578385"/>
                </a:lnTo>
                <a:lnTo>
                  <a:pt x="1002535" y="545335"/>
                </a:lnTo>
                <a:lnTo>
                  <a:pt x="1076899" y="490250"/>
                </a:lnTo>
                <a:lnTo>
                  <a:pt x="1038340" y="440674"/>
                </a:lnTo>
                <a:lnTo>
                  <a:pt x="1060373" y="415887"/>
                </a:lnTo>
                <a:lnTo>
                  <a:pt x="1035585" y="385590"/>
                </a:lnTo>
                <a:lnTo>
                  <a:pt x="1019060" y="347031"/>
                </a:lnTo>
                <a:lnTo>
                  <a:pt x="1076899" y="258896"/>
                </a:lnTo>
                <a:lnTo>
                  <a:pt x="1156771" y="220337"/>
                </a:lnTo>
                <a:lnTo>
                  <a:pt x="1068636" y="170761"/>
                </a:lnTo>
                <a:lnTo>
                  <a:pt x="1087915" y="129448"/>
                </a:lnTo>
                <a:lnTo>
                  <a:pt x="1140246" y="104660"/>
                </a:lnTo>
                <a:lnTo>
                  <a:pt x="1137491" y="55084"/>
                </a:lnTo>
                <a:lnTo>
                  <a:pt x="1107195" y="57838"/>
                </a:lnTo>
                <a:lnTo>
                  <a:pt x="1049356" y="0"/>
                </a:lnTo>
                <a:lnTo>
                  <a:pt x="85380" y="68855"/>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1" name="Freeform 20481"/>
          <p:cNvSpPr/>
          <p:nvPr/>
        </p:nvSpPr>
        <p:spPr>
          <a:xfrm>
            <a:off x="3338640" y="4838760"/>
            <a:ext cx="993600" cy="1258920"/>
          </a:xfrm>
          <a:custGeom>
            <a:avLst/>
            <a:gdLst/>
            <a:ahLst/>
            <a:rect l="l" t="t" r="r" b="b"/>
            <a:pathLst>
              <a:path w="994272" h="1258677">
                <a:moveTo>
                  <a:pt x="159744" y="46822"/>
                </a:moveTo>
                <a:lnTo>
                  <a:pt x="137711" y="79872"/>
                </a:lnTo>
                <a:lnTo>
                  <a:pt x="173516" y="162499"/>
                </a:lnTo>
                <a:lnTo>
                  <a:pt x="129448" y="212075"/>
                </a:lnTo>
                <a:lnTo>
                  <a:pt x="154236" y="264405"/>
                </a:lnTo>
                <a:lnTo>
                  <a:pt x="74364" y="404870"/>
                </a:lnTo>
                <a:lnTo>
                  <a:pt x="107414" y="448937"/>
                </a:lnTo>
                <a:lnTo>
                  <a:pt x="104660" y="479234"/>
                </a:lnTo>
                <a:lnTo>
                  <a:pt x="134956" y="515039"/>
                </a:lnTo>
                <a:lnTo>
                  <a:pt x="99152" y="559106"/>
                </a:lnTo>
                <a:lnTo>
                  <a:pt x="104660" y="614190"/>
                </a:lnTo>
                <a:lnTo>
                  <a:pt x="68855" y="638978"/>
                </a:lnTo>
                <a:lnTo>
                  <a:pt x="38559" y="685800"/>
                </a:lnTo>
                <a:lnTo>
                  <a:pt x="0" y="677537"/>
                </a:lnTo>
                <a:lnTo>
                  <a:pt x="0" y="765672"/>
                </a:lnTo>
                <a:lnTo>
                  <a:pt x="5508" y="831774"/>
                </a:lnTo>
                <a:lnTo>
                  <a:pt x="16525" y="903383"/>
                </a:lnTo>
                <a:lnTo>
                  <a:pt x="2754" y="941942"/>
                </a:lnTo>
                <a:lnTo>
                  <a:pt x="90889" y="1054865"/>
                </a:lnTo>
                <a:lnTo>
                  <a:pt x="162499" y="972239"/>
                </a:lnTo>
                <a:lnTo>
                  <a:pt x="201058" y="997027"/>
                </a:lnTo>
                <a:cubicBezTo>
                  <a:pt x="200140" y="1021815"/>
                  <a:pt x="199221" y="1046602"/>
                  <a:pt x="198303" y="1071390"/>
                </a:cubicBezTo>
                <a:lnTo>
                  <a:pt x="209320" y="1148508"/>
                </a:lnTo>
                <a:lnTo>
                  <a:pt x="223091" y="1167788"/>
                </a:lnTo>
                <a:cubicBezTo>
                  <a:pt x="233190" y="1170542"/>
                  <a:pt x="243345" y="1173097"/>
                  <a:pt x="253388" y="1176051"/>
                </a:cubicBezTo>
                <a:cubicBezTo>
                  <a:pt x="268342" y="1180449"/>
                  <a:pt x="265964" y="1179585"/>
                  <a:pt x="275422" y="1184313"/>
                </a:cubicBezTo>
                <a:lnTo>
                  <a:pt x="302964" y="1247660"/>
                </a:lnTo>
                <a:lnTo>
                  <a:pt x="421395" y="1220118"/>
                </a:lnTo>
                <a:lnTo>
                  <a:pt x="509530" y="1198084"/>
                </a:lnTo>
                <a:lnTo>
                  <a:pt x="655503" y="1250414"/>
                </a:lnTo>
                <a:lnTo>
                  <a:pt x="705079" y="1258677"/>
                </a:lnTo>
                <a:lnTo>
                  <a:pt x="616944" y="1109949"/>
                </a:lnTo>
                <a:lnTo>
                  <a:pt x="567369" y="986010"/>
                </a:lnTo>
                <a:lnTo>
                  <a:pt x="597665" y="952959"/>
                </a:lnTo>
                <a:lnTo>
                  <a:pt x="567369" y="908892"/>
                </a:lnTo>
                <a:lnTo>
                  <a:pt x="625207" y="842790"/>
                </a:lnTo>
                <a:lnTo>
                  <a:pt x="729867" y="793214"/>
                </a:lnTo>
                <a:lnTo>
                  <a:pt x="762918" y="581140"/>
                </a:lnTo>
                <a:lnTo>
                  <a:pt x="878595" y="481988"/>
                </a:lnTo>
                <a:lnTo>
                  <a:pt x="991518" y="352540"/>
                </a:lnTo>
                <a:lnTo>
                  <a:pt x="974993" y="344277"/>
                </a:lnTo>
                <a:lnTo>
                  <a:pt x="994272" y="217583"/>
                </a:lnTo>
                <a:lnTo>
                  <a:pt x="952959" y="192795"/>
                </a:lnTo>
                <a:lnTo>
                  <a:pt x="917154" y="192795"/>
                </a:lnTo>
                <a:lnTo>
                  <a:pt x="889612" y="184533"/>
                </a:lnTo>
                <a:lnTo>
                  <a:pt x="873087" y="209321"/>
                </a:lnTo>
                <a:lnTo>
                  <a:pt x="749147" y="96398"/>
                </a:lnTo>
                <a:lnTo>
                  <a:pt x="713342" y="0"/>
                </a:lnTo>
                <a:lnTo>
                  <a:pt x="159744" y="46822"/>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2" name="TextBox 1"/>
          <p:cNvSpPr/>
          <p:nvPr/>
        </p:nvSpPr>
        <p:spPr>
          <a:xfrm>
            <a:off x="6405480" y="2190600"/>
            <a:ext cx="2522520" cy="3814920"/>
          </a:xfrm>
          <a:prstGeom prst="rect">
            <a:avLst/>
          </a:prstGeom>
          <a:solidFill>
            <a:srgbClr val="ffff66"/>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ea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hac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Formos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orrientes y Misiones</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FORMOS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ORTHEAST NATIONAL UNIVERSIT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UNIVERSIDAD NACIONAL DE MISIONES</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
        <p:nvSpPr>
          <p:cNvPr id="1143" name="TextBox 2"/>
          <p:cNvSpPr/>
          <p:nvPr/>
        </p:nvSpPr>
        <p:spPr>
          <a:xfrm>
            <a:off x="5189400" y="760320"/>
            <a:ext cx="12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e15f00"/>
                </a:solidFill>
                <a:latin typeface="Verdana"/>
              </a:rPr>
              <a:t>3 HEIS</a:t>
            </a:r>
            <a:endParaRPr b="1" lang="en-US" sz="2000" spc="-1" strike="noStrike">
              <a:solidFill>
                <a:srgbClr val="ffd624"/>
              </a:solidFill>
              <a:latin typeface="Verdana"/>
            </a:endParaRPr>
          </a:p>
        </p:txBody>
      </p:sp>
      <p:sp>
        <p:nvSpPr>
          <p:cNvPr id="1144" name="TextBox 46"/>
          <p:cNvSpPr/>
          <p:nvPr/>
        </p:nvSpPr>
        <p:spPr>
          <a:xfrm>
            <a:off x="3522600" y="720720"/>
            <a:ext cx="123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00"/>
                </a:solidFill>
                <a:latin typeface="Verdana"/>
              </a:rPr>
              <a:t>5 HEIs</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42"/>
                                        </p:tgtEl>
                                        <p:attrNameLst>
                                          <p:attrName>style.visibility</p:attrName>
                                        </p:attrNameLst>
                                      </p:cBhvr>
                                      <p:to>
                                        <p:strVal val="visible"/>
                                      </p:to>
                                    </p:set>
                                    <p:animEffect filter="wipe(down)" transition="in">
                                      <p:cBhvr additive="repl">
                                        <p:cTn id="7" dur="500"/>
                                        <p:tgtEl>
                                          <p:spTgt spid="1142"/>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125"/>
                                        </p:tgtEl>
                                        <p:attrNameLst>
                                          <p:attrName>style.visibility</p:attrName>
                                        </p:attrNameLst>
                                      </p:cBhvr>
                                      <p:to>
                                        <p:strVal val="visible"/>
                                      </p:to>
                                    </p:set>
                                    <p:animEffect filter="wipe(down)" transition="in">
                                      <p:cBhvr additive="repl">
                                        <p:cTn id="11" dur="500"/>
                                        <p:tgtEl>
                                          <p:spTgt spid="1125"/>
                                        </p:tgtEl>
                                      </p:cBhvr>
                                    </p:animEffect>
                                  </p:childTnLst>
                                </p:cTn>
                              </p:par>
                              <p:par>
                                <p:cTn id="12" nodeType="withEffect" fill="hold" presetClass="entr" presetID="22" presetSubtype="4">
                                  <p:stCondLst>
                                    <p:cond delay="0"/>
                                  </p:stCondLst>
                                  <p:childTnLst>
                                    <p:set>
                                      <p:cBhvr>
                                        <p:cTn id="13" dur="1" fill="hold">
                                          <p:stCondLst>
                                            <p:cond delay="0"/>
                                          </p:stCondLst>
                                        </p:cTn>
                                        <p:tgtEl>
                                          <p:spTgt spid="1124"/>
                                        </p:tgtEl>
                                        <p:attrNameLst>
                                          <p:attrName>style.visibility</p:attrName>
                                        </p:attrNameLst>
                                      </p:cBhvr>
                                      <p:to>
                                        <p:strVal val="visible"/>
                                      </p:to>
                                    </p:set>
                                    <p:animEffect filter="wipe(down)" transition="in">
                                      <p:cBhvr additive="repl">
                                        <p:cTn id="14" dur="500"/>
                                        <p:tgtEl>
                                          <p:spTgt spid="1124"/>
                                        </p:tgtEl>
                                      </p:cBhvr>
                                    </p:animEffect>
                                  </p:childTnLst>
                                </p:cTn>
                              </p:par>
                              <p:par>
                                <p:cTn id="15" nodeType="withEffect" fill="hold" presetClass="entr" presetID="22" presetSubtype="4">
                                  <p:stCondLst>
                                    <p:cond delay="0"/>
                                  </p:stCondLst>
                                  <p:childTnLst>
                                    <p:set>
                                      <p:cBhvr>
                                        <p:cTn id="16" dur="1" fill="hold">
                                          <p:stCondLst>
                                            <p:cond delay="0"/>
                                          </p:stCondLst>
                                        </p:cTn>
                                        <p:tgtEl>
                                          <p:spTgt spid="1129"/>
                                        </p:tgtEl>
                                        <p:attrNameLst>
                                          <p:attrName>style.visibility</p:attrName>
                                        </p:attrNameLst>
                                      </p:cBhvr>
                                      <p:to>
                                        <p:strVal val="visible"/>
                                      </p:to>
                                    </p:set>
                                    <p:animEffect filter="wipe(down)" transition="in">
                                      <p:cBhvr additive="repl">
                                        <p:cTn id="17" dur="500"/>
                                        <p:tgtEl>
                                          <p:spTgt spid="1129"/>
                                        </p:tgtEl>
                                      </p:cBhvr>
                                    </p:animEffect>
                                  </p:childTnLst>
                                </p:cTn>
                              </p:par>
                              <p:par>
                                <p:cTn id="18" nodeType="withEffect" fill="hold" presetClass="entr" presetID="22" presetSubtype="4">
                                  <p:stCondLst>
                                    <p:cond delay="0"/>
                                  </p:stCondLst>
                                  <p:childTnLst>
                                    <p:set>
                                      <p:cBhvr>
                                        <p:cTn id="19" dur="1" fill="hold">
                                          <p:stCondLst>
                                            <p:cond delay="0"/>
                                          </p:stCondLst>
                                        </p:cTn>
                                        <p:tgtEl>
                                          <p:spTgt spid="1130"/>
                                        </p:tgtEl>
                                        <p:attrNameLst>
                                          <p:attrName>style.visibility</p:attrName>
                                        </p:attrNameLst>
                                      </p:cBhvr>
                                      <p:to>
                                        <p:strVal val="visible"/>
                                      </p:to>
                                    </p:set>
                                    <p:animEffect filter="wipe(down)" transition="in">
                                      <p:cBhvr additive="repl">
                                        <p:cTn id="20" dur="500"/>
                                        <p:tgtEl>
                                          <p:spTgt spid="1130"/>
                                        </p:tgtEl>
                                      </p:cBhvr>
                                    </p:animEffect>
                                  </p:childTnLst>
                                </p:cTn>
                              </p:par>
                              <p:par>
                                <p:cTn id="21" nodeType="withEffect" fill="hold" presetClass="entr" presetID="22" presetSubtype="4">
                                  <p:stCondLst>
                                    <p:cond delay="0"/>
                                  </p:stCondLst>
                                  <p:childTnLst>
                                    <p:set>
                                      <p:cBhvr>
                                        <p:cTn id="22" dur="1" fill="hold">
                                          <p:stCondLst>
                                            <p:cond delay="0"/>
                                          </p:stCondLst>
                                        </p:cTn>
                                        <p:tgtEl>
                                          <p:spTgt spid="1143"/>
                                        </p:tgtEl>
                                        <p:attrNameLst>
                                          <p:attrName>style.visibility</p:attrName>
                                        </p:attrNameLst>
                                      </p:cBhvr>
                                      <p:to>
                                        <p:strVal val="visible"/>
                                      </p:to>
                                    </p:set>
                                    <p:animEffect filter="wipe(down)" transition="in">
                                      <p:cBhvr additive="repl">
                                        <p:cTn id="23" dur="500"/>
                                        <p:tgtEl>
                                          <p:spTgt spid="114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119"/>
                                        </p:tgtEl>
                                        <p:attrNameLst>
                                          <p:attrName>style.visibility</p:attrName>
                                        </p:attrNameLst>
                                      </p:cBhvr>
                                      <p:to>
                                        <p:strVal val="visible"/>
                                      </p:to>
                                    </p:set>
                                    <p:animEffect filter="wipe(down)" transition="in">
                                      <p:cBhvr additive="repl">
                                        <p:cTn id="28" dur="500"/>
                                        <p:tgtEl>
                                          <p:spTgt spid="111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1126"/>
                                        </p:tgtEl>
                                        <p:attrNameLst>
                                          <p:attrName>style.visibility</p:attrName>
                                        </p:attrNameLst>
                                      </p:cBhvr>
                                      <p:to>
                                        <p:strVal val="visible"/>
                                      </p:to>
                                    </p:set>
                                    <p:animEffect filter="wipe(down)" transition="in">
                                      <p:cBhvr additive="repl">
                                        <p:cTn id="32" dur="500"/>
                                        <p:tgtEl>
                                          <p:spTgt spid="1126"/>
                                        </p:tgtEl>
                                      </p:cBhvr>
                                    </p:animEffect>
                                  </p:childTnLst>
                                </p:cTn>
                              </p:par>
                              <p:par>
                                <p:cTn id="33" nodeType="withEffect" fill="hold" presetClass="entr" presetID="22" presetSubtype="4">
                                  <p:stCondLst>
                                    <p:cond delay="0"/>
                                  </p:stCondLst>
                                  <p:childTnLst>
                                    <p:set>
                                      <p:cBhvr>
                                        <p:cTn id="34" dur="1" fill="hold">
                                          <p:stCondLst>
                                            <p:cond delay="0"/>
                                          </p:stCondLst>
                                        </p:cTn>
                                        <p:tgtEl>
                                          <p:spTgt spid="1122"/>
                                        </p:tgtEl>
                                        <p:attrNameLst>
                                          <p:attrName>style.visibility</p:attrName>
                                        </p:attrNameLst>
                                      </p:cBhvr>
                                      <p:to>
                                        <p:strVal val="visible"/>
                                      </p:to>
                                    </p:set>
                                    <p:animEffect filter="wipe(down)" transition="in">
                                      <p:cBhvr additive="repl">
                                        <p:cTn id="35" dur="500"/>
                                        <p:tgtEl>
                                          <p:spTgt spid="1122"/>
                                        </p:tgtEl>
                                      </p:cBhvr>
                                    </p:animEffect>
                                  </p:childTnLst>
                                </p:cTn>
                              </p:par>
                              <p:par>
                                <p:cTn id="36" nodeType="withEffect" fill="hold" presetClass="entr" presetID="22" presetSubtype="4">
                                  <p:stCondLst>
                                    <p:cond delay="0"/>
                                  </p:stCondLst>
                                  <p:childTnLst>
                                    <p:set>
                                      <p:cBhvr>
                                        <p:cTn id="37" dur="1" fill="hold">
                                          <p:stCondLst>
                                            <p:cond delay="0"/>
                                          </p:stCondLst>
                                        </p:cTn>
                                        <p:tgtEl>
                                          <p:spTgt spid="1123"/>
                                        </p:tgtEl>
                                        <p:attrNameLst>
                                          <p:attrName>style.visibility</p:attrName>
                                        </p:attrNameLst>
                                      </p:cBhvr>
                                      <p:to>
                                        <p:strVal val="visible"/>
                                      </p:to>
                                    </p:set>
                                    <p:animEffect filter="wipe(down)" transition="in">
                                      <p:cBhvr additive="repl">
                                        <p:cTn id="38" dur="500"/>
                                        <p:tgtEl>
                                          <p:spTgt spid="1123"/>
                                        </p:tgtEl>
                                      </p:cBhvr>
                                    </p:animEffect>
                                  </p:childTnLst>
                                </p:cTn>
                              </p:par>
                              <p:par>
                                <p:cTn id="39" nodeType="withEffect" fill="hold" presetClass="entr" presetID="22" presetSubtype="4">
                                  <p:stCondLst>
                                    <p:cond delay="0"/>
                                  </p:stCondLst>
                                  <p:childTnLst>
                                    <p:set>
                                      <p:cBhvr>
                                        <p:cTn id="40" dur="1" fill="hold">
                                          <p:stCondLst>
                                            <p:cond delay="0"/>
                                          </p:stCondLst>
                                        </p:cTn>
                                        <p:tgtEl>
                                          <p:spTgt spid="1121"/>
                                        </p:tgtEl>
                                        <p:attrNameLst>
                                          <p:attrName>style.visibility</p:attrName>
                                        </p:attrNameLst>
                                      </p:cBhvr>
                                      <p:to>
                                        <p:strVal val="visible"/>
                                      </p:to>
                                    </p:set>
                                    <p:animEffect filter="wipe(down)" transition="in">
                                      <p:cBhvr additive="repl">
                                        <p:cTn id="41" dur="500"/>
                                        <p:tgtEl>
                                          <p:spTgt spid="1121"/>
                                        </p:tgtEl>
                                      </p:cBhvr>
                                    </p:animEffect>
                                  </p:childTnLst>
                                </p:cTn>
                              </p:par>
                              <p:par>
                                <p:cTn id="42" nodeType="withEffect" fill="hold" presetClass="entr" presetID="22" presetSubtype="4">
                                  <p:stCondLst>
                                    <p:cond delay="0"/>
                                  </p:stCondLst>
                                  <p:childTnLst>
                                    <p:set>
                                      <p:cBhvr>
                                        <p:cTn id="43" dur="1" fill="hold">
                                          <p:stCondLst>
                                            <p:cond delay="0"/>
                                          </p:stCondLst>
                                        </p:cTn>
                                        <p:tgtEl>
                                          <p:spTgt spid="1120"/>
                                        </p:tgtEl>
                                        <p:attrNameLst>
                                          <p:attrName>style.visibility</p:attrName>
                                        </p:attrNameLst>
                                      </p:cBhvr>
                                      <p:to>
                                        <p:strVal val="visible"/>
                                      </p:to>
                                    </p:set>
                                    <p:animEffect filter="wipe(down)" transition="in">
                                      <p:cBhvr additive="repl">
                                        <p:cTn id="44" dur="500"/>
                                        <p:tgtEl>
                                          <p:spTgt spid="1120"/>
                                        </p:tgtEl>
                                      </p:cBhvr>
                                    </p:animEffect>
                                  </p:childTnLst>
                                </p:cTn>
                              </p:par>
                              <p:par>
                                <p:cTn id="45" nodeType="withEffect" fill="hold" presetClass="entr" presetID="22" presetSubtype="4">
                                  <p:stCondLst>
                                    <p:cond delay="0"/>
                                  </p:stCondLst>
                                  <p:childTnLst>
                                    <p:set>
                                      <p:cBhvr>
                                        <p:cTn id="46" dur="1" fill="hold">
                                          <p:stCondLst>
                                            <p:cond delay="0"/>
                                          </p:stCondLst>
                                        </p:cTn>
                                        <p:tgtEl>
                                          <p:spTgt spid="1144"/>
                                        </p:tgtEl>
                                        <p:attrNameLst>
                                          <p:attrName>style.visibility</p:attrName>
                                        </p:attrNameLst>
                                      </p:cBhvr>
                                      <p:to>
                                        <p:strVal val="visible"/>
                                      </p:to>
                                    </p:set>
                                    <p:animEffect filter="wipe(down)" transition="in">
                                      <p:cBhvr additive="repl">
                                        <p:cTn id="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Desafíos</a:t>
            </a:r>
            <a:endParaRPr b="1" lang="en-US" sz="3000" spc="-1" strike="noStrike">
              <a:solidFill>
                <a:srgbClr val="0f5494"/>
              </a:solidFill>
              <a:latin typeface="Verdana"/>
            </a:endParaRPr>
          </a:p>
        </p:txBody>
      </p:sp>
      <p:sp>
        <p:nvSpPr>
          <p:cNvPr id="1146"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Desarrollar una cooperación eficiente y durader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Contribuir a la mejora del nivel de calidad de los recursos humanos en los países de América Latin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Atraer y hacer participar el máximo de universidades, de ambos lados, aumentando sus capacidades  para encajar en un  contexto internacional gracias al cual se harán mas visibles y reconocidas</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mudena Saenz de Miera</cp:lastModifiedBy>
  <cp:lastPrinted>2013-12-06T13:47:46Z</cp:lastPrinted>
  <dcterms:modified xsi:type="dcterms:W3CDTF">2014-06-26T02:23:32Z</dcterms:modified>
  <cp:revision>394</cp:revision>
  <dc:subject/>
  <dc:title>Slide 1</dc:title>
</cp:coreProperties>
</file>